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9837-C00D-495C-B73F-7F2CE296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DD41-8255-46AB-AAA9-8F912611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8E09-1AC1-4D1D-8300-F851A5C9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762D-CC58-49A6-B783-35A13EB7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5114-C1E3-46B1-964A-89BDB4BD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86D2-D662-4C87-B907-70B735CF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62C3-902E-4141-A9EF-156EE74F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2953-C01B-4AB5-97D5-9A49167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431E-78D3-4301-9FCA-10DA8A98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F90F-70C7-4F69-8314-9FFDCD26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15B8-879E-47EB-8F5F-451C7FDF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D876-1942-4B9D-A135-88D9C714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7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" name="Group 15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9"/>
              <p:cNvSpPr/>
              <p:nvPr/>
            </p:nvSpPr>
            <p:spPr>
              <a:xfrm>
                <a:off x="4854600" y="0"/>
                <a:ext cx="15228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4705200" y="0"/>
                <a:ext cx="15084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4556160" y="0"/>
                <a:ext cx="15084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4406760" y="0"/>
                <a:ext cx="15084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257720" y="0"/>
                <a:ext cx="15084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4106880" y="0"/>
                <a:ext cx="15228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22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6"/>
              <p:cNvSpPr/>
              <p:nvPr/>
            </p:nvSpPr>
            <p:spPr>
              <a:xfrm>
                <a:off x="4854600" y="6345360"/>
                <a:ext cx="15228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4705200" y="6345360"/>
                <a:ext cx="15084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556160" y="6345360"/>
                <a:ext cx="15084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406760" y="6345360"/>
                <a:ext cx="15084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4257720" y="6345360"/>
                <a:ext cx="15084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4106880" y="6345360"/>
                <a:ext cx="15228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9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3"/>
              <p:cNvSpPr/>
              <p:nvPr/>
            </p:nvSpPr>
            <p:spPr>
              <a:xfrm>
                <a:off x="0" y="379404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0" y="361800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0" y="344160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0" y="326556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0" y="308916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0" y="291312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6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0"/>
              <p:cNvSpPr/>
              <p:nvPr/>
            </p:nvSpPr>
            <p:spPr>
              <a:xfrm>
                <a:off x="8659800" y="37688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8659800" y="360036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8659800" y="34322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8659800" y="326376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8659800" y="30956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659800" y="2927520"/>
                <a:ext cx="504720" cy="1695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4A1-588D-4840-8C1E-702932946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1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2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Rectangle 3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Rectangle 5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0080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0"/>
              <p:cNvSpPr/>
              <p:nvPr/>
            </p:nvSpPr>
            <p:spPr>
              <a:xfrm>
                <a:off x="425772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410544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455292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440064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484668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469440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23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7"/>
              <p:cNvSpPr/>
              <p:nvPr/>
            </p:nvSpPr>
            <p:spPr>
              <a:xfrm>
                <a:off x="0" y="295596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0" y="277956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Freeform 19"/>
              <p:cNvSpPr/>
              <p:nvPr/>
            </p:nvSpPr>
            <p:spPr>
              <a:xfrm>
                <a:off x="0" y="260352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Freeform 20"/>
              <p:cNvSpPr/>
              <p:nvPr/>
            </p:nvSpPr>
            <p:spPr>
              <a:xfrm>
                <a:off x="0" y="242712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Freeform 21"/>
              <p:cNvSpPr/>
              <p:nvPr/>
            </p:nvSpPr>
            <p:spPr>
              <a:xfrm>
                <a:off x="0" y="225108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>
                <a:off x="0" y="2075040"/>
                <a:ext cx="496800" cy="17748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30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4"/>
              <p:cNvSpPr/>
              <p:nvPr/>
            </p:nvSpPr>
            <p:spPr>
              <a:xfrm>
                <a:off x="8639280" y="29163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Freeform 25"/>
              <p:cNvSpPr/>
              <p:nvPr/>
            </p:nvSpPr>
            <p:spPr>
              <a:xfrm>
                <a:off x="8639280" y="274788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Freeform 26"/>
              <p:cNvSpPr/>
              <p:nvPr/>
            </p:nvSpPr>
            <p:spPr>
              <a:xfrm>
                <a:off x="8639280" y="25797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>
                <a:off x="8639280" y="241128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Freeform 28"/>
              <p:cNvSpPr/>
              <p:nvPr/>
            </p:nvSpPr>
            <p:spPr>
              <a:xfrm>
                <a:off x="8639280" y="22431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Freeform 29"/>
              <p:cNvSpPr/>
              <p:nvPr/>
            </p:nvSpPr>
            <p:spPr>
              <a:xfrm>
                <a:off x="8639280" y="2075040"/>
                <a:ext cx="504720" cy="1695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1671480" y="1752480"/>
          <a:ext cx="54057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752480"/>
                    <a:ext cx="5405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104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 to mole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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ery time we use 2 moles of 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e make 3 moles of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8" name="Group 11"/>
          <p:cNvGrpSpPr/>
          <p:nvPr/>
        </p:nvGrpSpPr>
        <p:grpSpPr>
          <a:xfrm>
            <a:off x="1219320" y="3440160"/>
            <a:ext cx="2744640" cy="980640"/>
            <a:chOff x="1219320" y="3440160"/>
            <a:chExt cx="2744640" cy="980640"/>
          </a:xfrm>
        </p:grpSpPr>
        <p:grpSp>
          <p:nvGrpSpPr>
            <p:cNvPr id="239" name="Group 6"/>
            <p:cNvGrpSpPr/>
            <p:nvPr/>
          </p:nvGrpSpPr>
          <p:grpSpPr>
            <a:xfrm>
              <a:off x="3719520" y="3440160"/>
              <a:ext cx="244440" cy="980640"/>
              <a:chOff x="3719520" y="3440160"/>
              <a:chExt cx="244440" cy="980640"/>
            </a:xfrm>
          </p:grpSpPr>
          <p:sp>
            <p:nvSpPr>
              <p:cNvPr id="240" name="Arc 4"/>
              <p:cNvSpPr/>
              <p:nvPr/>
            </p:nvSpPr>
            <p:spPr>
              <a:xfrm rot="10800000">
                <a:off x="3722760" y="3897000"/>
                <a:ext cx="2412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1" name="Arc 5"/>
              <p:cNvSpPr/>
              <p:nvPr/>
            </p:nvSpPr>
            <p:spPr>
              <a:xfrm>
                <a:off x="3719520" y="3440160"/>
                <a:ext cx="2430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9"/>
            <p:cNvGrpSpPr/>
            <p:nvPr/>
          </p:nvGrpSpPr>
          <p:grpSpPr>
            <a:xfrm>
              <a:off x="1219320" y="3440160"/>
              <a:ext cx="244440" cy="980640"/>
              <a:chOff x="1219320" y="3440160"/>
              <a:chExt cx="244440" cy="980640"/>
            </a:xfrm>
          </p:grpSpPr>
          <p:sp>
            <p:nvSpPr>
              <p:cNvPr id="243" name="Arc 7"/>
              <p:cNvSpPr/>
              <p:nvPr/>
            </p:nvSpPr>
            <p:spPr>
              <a:xfrm rot="10800000">
                <a:off x="1219320" y="3897000"/>
                <a:ext cx="2412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4" name="Arc 8"/>
              <p:cNvSpPr/>
              <p:nvPr/>
            </p:nvSpPr>
            <p:spPr>
              <a:xfrm>
                <a:off x="1220760" y="3440160"/>
                <a:ext cx="2430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Line 10"/>
            <p:cNvSpPr/>
            <p:nvPr/>
          </p:nvSpPr>
          <p:spPr>
            <a:xfrm>
              <a:off x="1541520" y="3929040"/>
              <a:ext cx="2097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46" name="Rectangle 12"/>
          <p:cNvSpPr/>
          <p:nvPr/>
        </p:nvSpPr>
        <p:spPr>
          <a:xfrm>
            <a:off x="1339920" y="3322800"/>
            <a:ext cx="250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666080" y="3932280"/>
            <a:ext cx="185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 mole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402440" y="362736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9" name="Group 22"/>
          <p:cNvGrpSpPr/>
          <p:nvPr/>
        </p:nvGrpSpPr>
        <p:grpSpPr>
          <a:xfrm>
            <a:off x="5105520" y="3516480"/>
            <a:ext cx="2744640" cy="980640"/>
            <a:chOff x="5105520" y="3516480"/>
            <a:chExt cx="2744640" cy="980640"/>
          </a:xfrm>
        </p:grpSpPr>
        <p:grpSp>
          <p:nvGrpSpPr>
            <p:cNvPr id="250" name="Group 17"/>
            <p:cNvGrpSpPr/>
            <p:nvPr/>
          </p:nvGrpSpPr>
          <p:grpSpPr>
            <a:xfrm>
              <a:off x="7605720" y="3516480"/>
              <a:ext cx="244440" cy="980640"/>
              <a:chOff x="7605720" y="3516480"/>
              <a:chExt cx="244440" cy="980640"/>
            </a:xfrm>
          </p:grpSpPr>
          <p:sp>
            <p:nvSpPr>
              <p:cNvPr id="251" name="Arc 15"/>
              <p:cNvSpPr/>
              <p:nvPr/>
            </p:nvSpPr>
            <p:spPr>
              <a:xfrm rot="10800000">
                <a:off x="7608960" y="3973320"/>
                <a:ext cx="2412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2" name="Arc 16"/>
              <p:cNvSpPr/>
              <p:nvPr/>
            </p:nvSpPr>
            <p:spPr>
              <a:xfrm>
                <a:off x="7605720" y="3516480"/>
                <a:ext cx="2430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20"/>
            <p:cNvGrpSpPr/>
            <p:nvPr/>
          </p:nvGrpSpPr>
          <p:grpSpPr>
            <a:xfrm>
              <a:off x="5105520" y="3516480"/>
              <a:ext cx="244440" cy="980640"/>
              <a:chOff x="5105520" y="3516480"/>
              <a:chExt cx="244440" cy="980640"/>
            </a:xfrm>
          </p:grpSpPr>
          <p:sp>
            <p:nvSpPr>
              <p:cNvPr id="254" name="Arc 18"/>
              <p:cNvSpPr/>
              <p:nvPr/>
            </p:nvSpPr>
            <p:spPr>
              <a:xfrm rot="10800000">
                <a:off x="5105520" y="3973320"/>
                <a:ext cx="2412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" name="Arc 19"/>
              <p:cNvSpPr/>
              <p:nvPr/>
            </p:nvSpPr>
            <p:spPr>
              <a:xfrm>
                <a:off x="5106960" y="3516480"/>
                <a:ext cx="2430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Line 21"/>
            <p:cNvSpPr/>
            <p:nvPr/>
          </p:nvSpPr>
          <p:spPr>
            <a:xfrm>
              <a:off x="5427720" y="4005360"/>
              <a:ext cx="2097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57" name="Rectangle 23"/>
          <p:cNvSpPr/>
          <p:nvPr/>
        </p:nvSpPr>
        <p:spPr>
          <a:xfrm>
            <a:off x="5226120" y="4008600"/>
            <a:ext cx="250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Rectangle 24"/>
          <p:cNvSpPr/>
          <p:nvPr/>
        </p:nvSpPr>
        <p:spPr>
          <a:xfrm>
            <a:off x="5552280" y="3398760"/>
            <a:ext cx="185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 mole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 to Mole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moles of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re produced when 3.34 moles of A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comp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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88880" y="3551400"/>
            <a:ext cx="26352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34 mole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62" name="Group 12"/>
          <p:cNvGrpSpPr/>
          <p:nvPr/>
        </p:nvGrpSpPr>
        <p:grpSpPr>
          <a:xfrm>
            <a:off x="3123720" y="3668760"/>
            <a:ext cx="2745000" cy="980640"/>
            <a:chOff x="3123720" y="3668760"/>
            <a:chExt cx="2745000" cy="980640"/>
          </a:xfrm>
        </p:grpSpPr>
        <p:grpSp>
          <p:nvGrpSpPr>
            <p:cNvPr id="263" name="Group 7"/>
            <p:cNvGrpSpPr/>
            <p:nvPr/>
          </p:nvGrpSpPr>
          <p:grpSpPr>
            <a:xfrm>
              <a:off x="5624640" y="3668760"/>
              <a:ext cx="244080" cy="980640"/>
              <a:chOff x="5624640" y="3668760"/>
              <a:chExt cx="244080" cy="980640"/>
            </a:xfrm>
          </p:grpSpPr>
          <p:sp>
            <p:nvSpPr>
              <p:cNvPr id="264" name="Arc 5"/>
              <p:cNvSpPr/>
              <p:nvPr/>
            </p:nvSpPr>
            <p:spPr>
              <a:xfrm rot="10800000">
                <a:off x="5627160" y="4125600"/>
                <a:ext cx="24156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" name="Arc 6"/>
              <p:cNvSpPr/>
              <p:nvPr/>
            </p:nvSpPr>
            <p:spPr>
              <a:xfrm>
                <a:off x="5624640" y="3668760"/>
                <a:ext cx="24264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0"/>
            <p:cNvGrpSpPr/>
            <p:nvPr/>
          </p:nvGrpSpPr>
          <p:grpSpPr>
            <a:xfrm>
              <a:off x="3123720" y="3668760"/>
              <a:ext cx="244800" cy="980640"/>
              <a:chOff x="3123720" y="3668760"/>
              <a:chExt cx="244800" cy="980640"/>
            </a:xfrm>
          </p:grpSpPr>
          <p:sp>
            <p:nvSpPr>
              <p:cNvPr id="267" name="Arc 8"/>
              <p:cNvSpPr/>
              <p:nvPr/>
            </p:nvSpPr>
            <p:spPr>
              <a:xfrm rot="10800000">
                <a:off x="3123720" y="4125600"/>
                <a:ext cx="24156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" name="Arc 9"/>
              <p:cNvSpPr/>
              <p:nvPr/>
            </p:nvSpPr>
            <p:spPr>
              <a:xfrm>
                <a:off x="3125880" y="3668760"/>
                <a:ext cx="24264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Line 11"/>
            <p:cNvSpPr/>
            <p:nvPr/>
          </p:nvSpPr>
          <p:spPr>
            <a:xfrm>
              <a:off x="3446640" y="4157640"/>
              <a:ext cx="2097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70" name="Rectangle 13"/>
          <p:cNvSpPr/>
          <p:nvPr/>
        </p:nvSpPr>
        <p:spPr>
          <a:xfrm>
            <a:off x="3245040" y="4160880"/>
            <a:ext cx="250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571200" y="3551400"/>
            <a:ext cx="185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 mole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5875920" y="378000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6260760" y="3780000"/>
            <a:ext cx="2489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.01 moles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4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3.84 moles of 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burned, how many moles of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re need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4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moles of  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needed to produce 8.95 mole of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ss in Chemical Reaction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much do you mak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much do you ne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 can’t measure moles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can we do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can convert grams to mole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iodic Tab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n use moles to change chemica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lanced equ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n turn the moles back to gram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iodic tab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7"/>
          <p:cNvSpPr/>
          <p:nvPr/>
        </p:nvSpPr>
        <p:spPr>
          <a:xfrm>
            <a:off x="1219320" y="6858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iodic T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3" name="Group 34"/>
          <p:cNvGrpSpPr/>
          <p:nvPr/>
        </p:nvGrpSpPr>
        <p:grpSpPr>
          <a:xfrm>
            <a:off x="2514600" y="2666880"/>
            <a:ext cx="1676520" cy="1600200"/>
            <a:chOff x="2514600" y="2666880"/>
            <a:chExt cx="1676520" cy="1600200"/>
          </a:xfrm>
        </p:grpSpPr>
        <p:sp>
          <p:nvSpPr>
            <p:cNvPr id="284" name="Rectangle 29"/>
            <p:cNvSpPr/>
            <p:nvPr/>
          </p:nvSpPr>
          <p:spPr>
            <a:xfrm>
              <a:off x="2514600" y="2666880"/>
              <a:ext cx="1676520" cy="1600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Text Box 15"/>
            <p:cNvSpPr/>
            <p:nvPr/>
          </p:nvSpPr>
          <p:spPr>
            <a:xfrm>
              <a:off x="2743200" y="293364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olesA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86" name="Group 33"/>
          <p:cNvGrpSpPr/>
          <p:nvPr/>
        </p:nvGrpSpPr>
        <p:grpSpPr>
          <a:xfrm>
            <a:off x="4800600" y="2666880"/>
            <a:ext cx="1676520" cy="1600200"/>
            <a:chOff x="4800600" y="2666880"/>
            <a:chExt cx="1676520" cy="1600200"/>
          </a:xfrm>
        </p:grpSpPr>
        <p:sp>
          <p:nvSpPr>
            <p:cNvPr id="287" name="Rectangle 30"/>
            <p:cNvSpPr/>
            <p:nvPr/>
          </p:nvSpPr>
          <p:spPr>
            <a:xfrm>
              <a:off x="4800600" y="2666880"/>
              <a:ext cx="1676520" cy="1600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5029200" y="293364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olesB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89" name="Group 32"/>
          <p:cNvGrpSpPr/>
          <p:nvPr/>
        </p:nvGrpSpPr>
        <p:grpSpPr>
          <a:xfrm>
            <a:off x="7010280" y="2666880"/>
            <a:ext cx="1676520" cy="1600200"/>
            <a:chOff x="7010280" y="2666880"/>
            <a:chExt cx="1676520" cy="1600200"/>
          </a:xfrm>
        </p:grpSpPr>
        <p:sp>
          <p:nvSpPr>
            <p:cNvPr id="290" name="Rectangle 31"/>
            <p:cNvSpPr/>
            <p:nvPr/>
          </p:nvSpPr>
          <p:spPr>
            <a:xfrm>
              <a:off x="7010280" y="2666880"/>
              <a:ext cx="1676520" cy="1600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7238880" y="293364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ass</a:t>
              </a:r>
              <a:br>
                <a:rPr sz="3200"/>
              </a:b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g B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2" name="Text Box 24"/>
          <p:cNvSpPr/>
          <p:nvPr/>
        </p:nvSpPr>
        <p:spPr>
          <a:xfrm>
            <a:off x="5791320" y="6858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iodic T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5715000" y="1828800"/>
            <a:ext cx="2209680" cy="838080"/>
          </a:xfrm>
          <a:custGeom>
            <a:avLst/>
            <a:gdLst>
              <a:gd name="textAreaLeft" fmla="*/ 426600 w 2209680"/>
              <a:gd name="textAreaRight" fmla="*/ 1535400 w 220968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1" hR="21600" stAng="10800000" swAng="5400000"/>
                <a:lnTo>
                  <a:pt x="10839" y="0"/>
                </a:lnTo>
                <a:arcTo wR="8341" hR="21600" stAng="-5400000" swAng="2351529"/>
                <a:lnTo>
                  <a:pt x="20797" y="12355"/>
                </a:lnTo>
                <a:lnTo>
                  <a:pt x="17930" y="21600"/>
                </a:lnTo>
                <a:lnTo>
                  <a:pt x="13457" y="12355"/>
                </a:lnTo>
                <a:lnTo>
                  <a:pt x="15878" y="12355"/>
                </a:lnTo>
                <a:arcTo wR="8341" hR="21600" stAng="-3048471" swAng="-2150706"/>
                <a:lnTo>
                  <a:pt x="9590" y="244"/>
                </a:lnTo>
                <a:arcTo wR="8341" hR="21600" stAng="-5600823" swAng="-5199177"/>
                <a:close/>
              </a:path>
              <a:path fill="darkenLess" w="21600" h="21600">
                <a:moveTo>
                  <a:pt x="0" y="21600"/>
                </a:moveTo>
                <a:arcTo wR="8341" hR="21600" stAng="10800000" swAng="5400000"/>
                <a:lnTo>
                  <a:pt x="8341" y="0"/>
                </a:lnTo>
                <a:arcTo wR="8341" hR="21600" stAng="-5400000" swAng="200823"/>
                <a:lnTo>
                  <a:pt x="9590" y="244"/>
                </a:lnTo>
                <a:arcTo wR="8341" hR="21600" stAng="-5600823" swAng="-5199177"/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Text Box 27"/>
          <p:cNvSpPr/>
          <p:nvPr/>
        </p:nvSpPr>
        <p:spPr>
          <a:xfrm>
            <a:off x="3581280" y="68580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lanced Equ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AutoShape 36"/>
          <p:cNvSpPr/>
          <p:nvPr/>
        </p:nvSpPr>
        <p:spPr>
          <a:xfrm>
            <a:off x="3581280" y="1828800"/>
            <a:ext cx="2210040" cy="838080"/>
          </a:xfrm>
          <a:custGeom>
            <a:avLst/>
            <a:gdLst>
              <a:gd name="textAreaLeft" fmla="*/ 426600 w 2210040"/>
              <a:gd name="textAreaRight" fmla="*/ 1535760 w 221004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1" hR="21600" stAng="10800000" swAng="5400000"/>
                <a:lnTo>
                  <a:pt x="10839" y="0"/>
                </a:lnTo>
                <a:arcTo wR="8341" hR="21600" stAng="-5400000" swAng="2351529"/>
                <a:lnTo>
                  <a:pt x="20797" y="12355"/>
                </a:lnTo>
                <a:lnTo>
                  <a:pt x="17930" y="21600"/>
                </a:lnTo>
                <a:lnTo>
                  <a:pt x="13457" y="12355"/>
                </a:lnTo>
                <a:lnTo>
                  <a:pt x="15878" y="12355"/>
                </a:lnTo>
                <a:arcTo wR="8341" hR="21600" stAng="-3048471" swAng="-2150706"/>
                <a:lnTo>
                  <a:pt x="9590" y="244"/>
                </a:lnTo>
                <a:arcTo wR="8341" hR="21600" stAng="-5600823" swAng="-5199177"/>
                <a:close/>
              </a:path>
              <a:path fill="darkenLess" w="21600" h="21600">
                <a:moveTo>
                  <a:pt x="0" y="21600"/>
                </a:moveTo>
                <a:arcTo wR="8341" hR="21600" stAng="10800000" swAng="5400000"/>
                <a:lnTo>
                  <a:pt x="8341" y="0"/>
                </a:lnTo>
                <a:arcTo wR="8341" hR="21600" stAng="-5400000" swAng="200823"/>
                <a:lnTo>
                  <a:pt x="9590" y="244"/>
                </a:lnTo>
                <a:arcTo wR="8341" hR="21600" stAng="-5600823" swAng="-5199177"/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6" name="Group 35"/>
          <p:cNvGrpSpPr/>
          <p:nvPr/>
        </p:nvGrpSpPr>
        <p:grpSpPr>
          <a:xfrm>
            <a:off x="380880" y="2666880"/>
            <a:ext cx="1676520" cy="1600200"/>
            <a:chOff x="380880" y="2666880"/>
            <a:chExt cx="1676520" cy="1600200"/>
          </a:xfrm>
        </p:grpSpPr>
        <p:sp>
          <p:nvSpPr>
            <p:cNvPr id="297" name="Rectangle 28"/>
            <p:cNvSpPr/>
            <p:nvPr/>
          </p:nvSpPr>
          <p:spPr>
            <a:xfrm>
              <a:off x="380880" y="2666880"/>
              <a:ext cx="1676520" cy="1600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Text Box 5"/>
            <p:cNvSpPr/>
            <p:nvPr/>
          </p:nvSpPr>
          <p:spPr>
            <a:xfrm>
              <a:off x="609480" y="293364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ass</a:t>
              </a:r>
              <a:br>
                <a:rPr sz="3200"/>
              </a:b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g A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9" name="AutoShape 37"/>
          <p:cNvSpPr/>
          <p:nvPr/>
        </p:nvSpPr>
        <p:spPr>
          <a:xfrm>
            <a:off x="1219320" y="1828800"/>
            <a:ext cx="2209680" cy="838080"/>
          </a:xfrm>
          <a:custGeom>
            <a:avLst/>
            <a:gdLst>
              <a:gd name="textAreaLeft" fmla="*/ 426600 w 2209680"/>
              <a:gd name="textAreaRight" fmla="*/ 1535400 w 220968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1" hR="21600" stAng="10800000" swAng="5400000"/>
                <a:lnTo>
                  <a:pt x="10839" y="0"/>
                </a:lnTo>
                <a:arcTo wR="8341" hR="21600" stAng="-5400000" swAng="2351529"/>
                <a:lnTo>
                  <a:pt x="20797" y="12355"/>
                </a:lnTo>
                <a:lnTo>
                  <a:pt x="17930" y="21600"/>
                </a:lnTo>
                <a:lnTo>
                  <a:pt x="13457" y="12355"/>
                </a:lnTo>
                <a:lnTo>
                  <a:pt x="15878" y="12355"/>
                </a:lnTo>
                <a:arcTo wR="8341" hR="21600" stAng="-3048471" swAng="-2150706"/>
                <a:lnTo>
                  <a:pt x="9590" y="244"/>
                </a:lnTo>
                <a:arcTo wR="8341" hR="21600" stAng="-5600823" swAng="-5199177"/>
                <a:close/>
              </a:path>
              <a:path fill="darkenLess" w="21600" h="21600">
                <a:moveTo>
                  <a:pt x="0" y="21600"/>
                </a:moveTo>
                <a:arcTo wR="8341" hR="21600" stAng="10800000" swAng="5400000"/>
                <a:lnTo>
                  <a:pt x="8341" y="0"/>
                </a:lnTo>
                <a:arcTo wR="8341" hR="21600" stAng="-5400000" swAng="200823"/>
                <a:lnTo>
                  <a:pt x="9590" y="244"/>
                </a:lnTo>
                <a:arcTo wR="8341" hR="21600" stAng="-5600823" swAng="-5199177"/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Text Box 39"/>
          <p:cNvSpPr/>
          <p:nvPr/>
        </p:nvSpPr>
        <p:spPr>
          <a:xfrm>
            <a:off x="685800" y="44956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ide where to start based on the units you are given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stop based on what unit you are asked f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4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moles of  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needed to produce 8.95 g of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4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2.47 moles of 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burned, how many g of 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re form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example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10.1 g of Fe are added to a solution of Copper (II) Sulfate, how much solid copper would form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 + Cu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Fe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Cu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Fe + 3Cu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Fe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3Cu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363960" y="4389480"/>
            <a:ext cx="189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.1 g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8" name="Group 14"/>
          <p:cNvGrpSpPr/>
          <p:nvPr/>
        </p:nvGrpSpPr>
        <p:grpSpPr>
          <a:xfrm>
            <a:off x="2135160" y="4267080"/>
            <a:ext cx="2208240" cy="1219320"/>
            <a:chOff x="2135160" y="4267080"/>
            <a:chExt cx="2208240" cy="1219320"/>
          </a:xfrm>
        </p:grpSpPr>
        <p:sp>
          <p:nvSpPr>
            <p:cNvPr id="309" name="Arc 15"/>
            <p:cNvSpPr/>
            <p:nvPr/>
          </p:nvSpPr>
          <p:spPr>
            <a:xfrm>
              <a:off x="2135160" y="4267080"/>
              <a:ext cx="3160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Arc 16"/>
            <p:cNvSpPr/>
            <p:nvPr/>
          </p:nvSpPr>
          <p:spPr>
            <a:xfrm>
              <a:off x="4025880" y="4267080"/>
              <a:ext cx="31752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238480" y="4876920"/>
              <a:ext cx="2000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2" name="Rectangle 18"/>
          <p:cNvSpPr/>
          <p:nvPr/>
        </p:nvSpPr>
        <p:spPr>
          <a:xfrm>
            <a:off x="2250000" y="4846680"/>
            <a:ext cx="212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5.85 g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278800" y="431316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4" name="Group 20"/>
          <p:cNvGrpSpPr/>
          <p:nvPr/>
        </p:nvGrpSpPr>
        <p:grpSpPr>
          <a:xfrm>
            <a:off x="4344840" y="4267080"/>
            <a:ext cx="1905120" cy="1219320"/>
            <a:chOff x="4344840" y="4267080"/>
            <a:chExt cx="1905120" cy="1219320"/>
          </a:xfrm>
        </p:grpSpPr>
        <p:sp>
          <p:nvSpPr>
            <p:cNvPr id="315" name="Arc 21"/>
            <p:cNvSpPr/>
            <p:nvPr/>
          </p:nvSpPr>
          <p:spPr>
            <a:xfrm>
              <a:off x="4344840" y="4267080"/>
              <a:ext cx="273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Arc 22"/>
            <p:cNvSpPr/>
            <p:nvPr/>
          </p:nvSpPr>
          <p:spPr>
            <a:xfrm>
              <a:off x="5975280" y="4267080"/>
              <a:ext cx="2746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Line 23"/>
            <p:cNvSpPr/>
            <p:nvPr/>
          </p:nvSpPr>
          <p:spPr>
            <a:xfrm>
              <a:off x="4433760" y="4876920"/>
              <a:ext cx="17240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8" name="Rectangle 24"/>
          <p:cNvSpPr/>
          <p:nvPr/>
        </p:nvSpPr>
        <p:spPr>
          <a:xfrm>
            <a:off x="4402800" y="484668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4403880" y="438948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6249960" y="4267080"/>
            <a:ext cx="2362320" cy="1219320"/>
            <a:chOff x="6249960" y="4267080"/>
            <a:chExt cx="2362320" cy="1219320"/>
          </a:xfrm>
        </p:grpSpPr>
        <p:sp>
          <p:nvSpPr>
            <p:cNvPr id="321" name="Arc 27"/>
            <p:cNvSpPr/>
            <p:nvPr/>
          </p:nvSpPr>
          <p:spPr>
            <a:xfrm>
              <a:off x="6249960" y="4267080"/>
              <a:ext cx="3380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Arc 28"/>
            <p:cNvSpPr/>
            <p:nvPr/>
          </p:nvSpPr>
          <p:spPr>
            <a:xfrm>
              <a:off x="8272440" y="4267080"/>
              <a:ext cx="3398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Line 29"/>
            <p:cNvSpPr/>
            <p:nvPr/>
          </p:nvSpPr>
          <p:spPr>
            <a:xfrm>
              <a:off x="6359400" y="4876920"/>
              <a:ext cx="21402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24" name="Rectangle 30"/>
          <p:cNvSpPr/>
          <p:nvPr/>
        </p:nvSpPr>
        <p:spPr>
          <a:xfrm>
            <a:off x="6461280" y="484668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Rectangle 31"/>
          <p:cNvSpPr/>
          <p:nvPr/>
        </p:nvSpPr>
        <p:spPr>
          <a:xfrm>
            <a:off x="6383880" y="4313160"/>
            <a:ext cx="217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3.55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5524560" y="5745240"/>
            <a:ext cx="42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Rectangle 33"/>
          <p:cNvSpPr/>
          <p:nvPr/>
        </p:nvSpPr>
        <p:spPr>
          <a:xfrm>
            <a:off x="5828400" y="5745240"/>
            <a:ext cx="194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2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oichiomet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ek for “measuring elements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alculations of quantities in chemical reactions based on a balanced equatio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can interpret balanced chemical equations several way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Fe + 3CuSO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Fe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SO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3C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71040" y="2103480"/>
            <a:ext cx="2553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.181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0" name="Group 7"/>
          <p:cNvGrpSpPr/>
          <p:nvPr/>
        </p:nvGrpSpPr>
        <p:grpSpPr>
          <a:xfrm>
            <a:off x="3201840" y="1752480"/>
            <a:ext cx="2284560" cy="1219320"/>
            <a:chOff x="3201840" y="1752480"/>
            <a:chExt cx="2284560" cy="1219320"/>
          </a:xfrm>
        </p:grpSpPr>
        <p:sp>
          <p:nvSpPr>
            <p:cNvPr id="331" name="Arc 4"/>
            <p:cNvSpPr/>
            <p:nvPr/>
          </p:nvSpPr>
          <p:spPr>
            <a:xfrm>
              <a:off x="3201840" y="1752480"/>
              <a:ext cx="327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Arc 5"/>
            <p:cNvSpPr/>
            <p:nvPr/>
          </p:nvSpPr>
          <p:spPr>
            <a:xfrm>
              <a:off x="5157720" y="1752480"/>
              <a:ext cx="3286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3308400" y="2362320"/>
              <a:ext cx="2070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34" name="Rectangle 8"/>
          <p:cNvSpPr/>
          <p:nvPr/>
        </p:nvSpPr>
        <p:spPr>
          <a:xfrm>
            <a:off x="3489840" y="240840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3413160" y="179856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5470560" y="2103480"/>
            <a:ext cx="42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5776560" y="2027160"/>
            <a:ext cx="259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.272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747360" y="4084560"/>
            <a:ext cx="259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.272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278160" y="3733920"/>
            <a:ext cx="2362320" cy="1218960"/>
            <a:chOff x="3278160" y="3733920"/>
            <a:chExt cx="2362320" cy="1218960"/>
          </a:xfrm>
        </p:grpSpPr>
        <p:sp>
          <p:nvSpPr>
            <p:cNvPr id="340" name="Arc 13"/>
            <p:cNvSpPr/>
            <p:nvPr/>
          </p:nvSpPr>
          <p:spPr>
            <a:xfrm>
              <a:off x="3278160" y="3733920"/>
              <a:ext cx="338040" cy="121896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Arc 14"/>
            <p:cNvSpPr/>
            <p:nvPr/>
          </p:nvSpPr>
          <p:spPr>
            <a:xfrm>
              <a:off x="5300640" y="3733920"/>
              <a:ext cx="339840" cy="121896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>
              <a:off x="3387600" y="4343400"/>
              <a:ext cx="21402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43" name="Rectangle 17"/>
          <p:cNvSpPr/>
          <p:nvPr/>
        </p:nvSpPr>
        <p:spPr>
          <a:xfrm>
            <a:off x="3489480" y="431316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3414240" y="3780000"/>
            <a:ext cx="217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3.55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5622840" y="4084560"/>
            <a:ext cx="42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6080400" y="4084560"/>
            <a:ext cx="194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3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5956200" y="3594240"/>
            <a:ext cx="2260800" cy="14223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uld have done 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66120" y="2103480"/>
            <a:ext cx="189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.1 g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50" name="Group 7"/>
          <p:cNvGrpSpPr/>
          <p:nvPr/>
        </p:nvGrpSpPr>
        <p:grpSpPr>
          <a:xfrm>
            <a:off x="2135160" y="1981080"/>
            <a:ext cx="2208240" cy="1219320"/>
            <a:chOff x="2135160" y="1981080"/>
            <a:chExt cx="2208240" cy="1219320"/>
          </a:xfrm>
        </p:grpSpPr>
        <p:sp>
          <p:nvSpPr>
            <p:cNvPr id="351" name="Arc 4"/>
            <p:cNvSpPr/>
            <p:nvPr/>
          </p:nvSpPr>
          <p:spPr>
            <a:xfrm>
              <a:off x="2135160" y="1981080"/>
              <a:ext cx="3160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Arc 5"/>
            <p:cNvSpPr/>
            <p:nvPr/>
          </p:nvSpPr>
          <p:spPr>
            <a:xfrm>
              <a:off x="4025880" y="1981080"/>
              <a:ext cx="31752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2238480" y="2590920"/>
              <a:ext cx="2000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4" name="Rectangle 8"/>
          <p:cNvSpPr/>
          <p:nvPr/>
        </p:nvSpPr>
        <p:spPr>
          <a:xfrm>
            <a:off x="2252160" y="2560680"/>
            <a:ext cx="212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5.85 g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2280240" y="202716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56" name="Group 13"/>
          <p:cNvGrpSpPr/>
          <p:nvPr/>
        </p:nvGrpSpPr>
        <p:grpSpPr>
          <a:xfrm>
            <a:off x="4344840" y="1981080"/>
            <a:ext cx="1905120" cy="1219320"/>
            <a:chOff x="4344840" y="1981080"/>
            <a:chExt cx="1905120" cy="1219320"/>
          </a:xfrm>
        </p:grpSpPr>
        <p:sp>
          <p:nvSpPr>
            <p:cNvPr id="357" name="Arc 10"/>
            <p:cNvSpPr/>
            <p:nvPr/>
          </p:nvSpPr>
          <p:spPr>
            <a:xfrm>
              <a:off x="4344840" y="1981080"/>
              <a:ext cx="273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Arc 11"/>
            <p:cNvSpPr/>
            <p:nvPr/>
          </p:nvSpPr>
          <p:spPr>
            <a:xfrm>
              <a:off x="5975280" y="1981080"/>
              <a:ext cx="2746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4433760" y="2590920"/>
              <a:ext cx="17240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60" name="Rectangle 14"/>
          <p:cNvSpPr/>
          <p:nvPr/>
        </p:nvSpPr>
        <p:spPr>
          <a:xfrm>
            <a:off x="4404240" y="256068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4403880" y="210348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2" name="Group 19"/>
          <p:cNvGrpSpPr/>
          <p:nvPr/>
        </p:nvGrpSpPr>
        <p:grpSpPr>
          <a:xfrm>
            <a:off x="6249960" y="1981080"/>
            <a:ext cx="2362320" cy="1219320"/>
            <a:chOff x="6249960" y="1981080"/>
            <a:chExt cx="2362320" cy="1219320"/>
          </a:xfrm>
        </p:grpSpPr>
        <p:sp>
          <p:nvSpPr>
            <p:cNvPr id="363" name="Arc 16"/>
            <p:cNvSpPr/>
            <p:nvPr/>
          </p:nvSpPr>
          <p:spPr>
            <a:xfrm>
              <a:off x="6249960" y="1981080"/>
              <a:ext cx="3380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Arc 17"/>
            <p:cNvSpPr/>
            <p:nvPr/>
          </p:nvSpPr>
          <p:spPr>
            <a:xfrm>
              <a:off x="8272440" y="1981080"/>
              <a:ext cx="3398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>
              <a:off x="6359400" y="2590920"/>
              <a:ext cx="21402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66" name="Rectangle 20"/>
          <p:cNvSpPr/>
          <p:nvPr/>
        </p:nvSpPr>
        <p:spPr>
          <a:xfrm>
            <a:off x="6461280" y="256068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6386040" y="2027160"/>
            <a:ext cx="217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3.55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5013360" y="4008600"/>
            <a:ext cx="42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5318640" y="4008600"/>
            <a:ext cx="194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3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make silicon for computer chips they use this re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Mg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Mg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S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moles of Mg are needed to make 9.3 g of Si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make silicon for computer chips they use this re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Mg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Mg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S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74 g of Mg would make how many moles of Si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make silicon for computer chips they use this re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Mg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Mg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S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grams of Mg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produced along with 9.3 g of silic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U. S. Space Shuttle boosters use this re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Al(s) + 3 N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A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Al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3 NO + 6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Al must be used to react with 652 g of N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water is produc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Al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you get good at thi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1519200" y="1392120"/>
          <a:ext cx="608652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392120"/>
                    <a:ext cx="60865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476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ses and Reac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 can also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ters of a gas to mo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 ST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ºC and 1 atmosphere press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 STP 22.4 L of a gas  = 1 mo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6.45 grams of water are decomposed, how many liters of oxygen will be produced at STP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70080" y="4846680"/>
            <a:ext cx="2280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.45 g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4" name="Group 8"/>
          <p:cNvGrpSpPr/>
          <p:nvPr/>
        </p:nvGrpSpPr>
        <p:grpSpPr>
          <a:xfrm>
            <a:off x="2438280" y="4724280"/>
            <a:ext cx="2286000" cy="1219320"/>
            <a:chOff x="2438280" y="4724280"/>
            <a:chExt cx="2286000" cy="1219320"/>
          </a:xfrm>
        </p:grpSpPr>
        <p:sp>
          <p:nvSpPr>
            <p:cNvPr id="385" name="Arc 5"/>
            <p:cNvSpPr/>
            <p:nvPr/>
          </p:nvSpPr>
          <p:spPr>
            <a:xfrm>
              <a:off x="2438280" y="4724280"/>
              <a:ext cx="327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Arc 6"/>
            <p:cNvSpPr/>
            <p:nvPr/>
          </p:nvSpPr>
          <p:spPr>
            <a:xfrm>
              <a:off x="4395960" y="4724280"/>
              <a:ext cx="32832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2544840" y="5334120"/>
              <a:ext cx="20714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8" name="Rectangle 9"/>
          <p:cNvSpPr/>
          <p:nvPr/>
        </p:nvSpPr>
        <p:spPr>
          <a:xfrm>
            <a:off x="2486160" y="5326200"/>
            <a:ext cx="226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8.02 g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2440800" y="4770360"/>
            <a:ext cx="20491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0" name="Group 14"/>
          <p:cNvGrpSpPr/>
          <p:nvPr/>
        </p:nvGrpSpPr>
        <p:grpSpPr>
          <a:xfrm>
            <a:off x="4724280" y="4724280"/>
            <a:ext cx="1905120" cy="1219320"/>
            <a:chOff x="4724280" y="4724280"/>
            <a:chExt cx="1905120" cy="1219320"/>
          </a:xfrm>
        </p:grpSpPr>
        <p:sp>
          <p:nvSpPr>
            <p:cNvPr id="391" name="Arc 11"/>
            <p:cNvSpPr/>
            <p:nvPr/>
          </p:nvSpPr>
          <p:spPr>
            <a:xfrm>
              <a:off x="4724280" y="4724280"/>
              <a:ext cx="273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Arc 12"/>
            <p:cNvSpPr/>
            <p:nvPr/>
          </p:nvSpPr>
          <p:spPr>
            <a:xfrm>
              <a:off x="6354720" y="4724280"/>
              <a:ext cx="2746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>
              <a:off x="4813200" y="5334120"/>
              <a:ext cx="17240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94" name="Rectangle 15"/>
          <p:cNvSpPr/>
          <p:nvPr/>
        </p:nvSpPr>
        <p:spPr>
          <a:xfrm>
            <a:off x="4715640" y="5326200"/>
            <a:ext cx="192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2 mol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4793760" y="4770360"/>
            <a:ext cx="17550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6" name="Group 20"/>
          <p:cNvGrpSpPr/>
          <p:nvPr/>
        </p:nvGrpSpPr>
        <p:grpSpPr>
          <a:xfrm>
            <a:off x="6629400" y="4724280"/>
            <a:ext cx="2058840" cy="1219320"/>
            <a:chOff x="6629400" y="4724280"/>
            <a:chExt cx="2058840" cy="1219320"/>
          </a:xfrm>
        </p:grpSpPr>
        <p:sp>
          <p:nvSpPr>
            <p:cNvPr id="397" name="Arc 17"/>
            <p:cNvSpPr/>
            <p:nvPr/>
          </p:nvSpPr>
          <p:spPr>
            <a:xfrm>
              <a:off x="6629400" y="4724280"/>
              <a:ext cx="29520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Arc 18"/>
            <p:cNvSpPr/>
            <p:nvPr/>
          </p:nvSpPr>
          <p:spPr>
            <a:xfrm>
              <a:off x="8393040" y="4724280"/>
              <a:ext cx="29520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Line 19"/>
            <p:cNvSpPr/>
            <p:nvPr/>
          </p:nvSpPr>
          <p:spPr>
            <a:xfrm>
              <a:off x="6724800" y="5334120"/>
              <a:ext cx="1865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0" name="Rectangle 21"/>
          <p:cNvSpPr/>
          <p:nvPr/>
        </p:nvSpPr>
        <p:spPr>
          <a:xfrm>
            <a:off x="6698880" y="5303880"/>
            <a:ext cx="17550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Rectangle 22"/>
          <p:cNvSpPr/>
          <p:nvPr/>
        </p:nvSpPr>
        <p:spPr>
          <a:xfrm>
            <a:off x="6774120" y="4770360"/>
            <a:ext cx="1890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2.4 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erms of Partic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 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lecular compound (non- metal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 diatomic (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tc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 uni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onic Compounds (Metal and non-metal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r Tu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iters of 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t STP will be produced from the complete combustion of 23.2 g C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iters of C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 STP are required to completely react with 17.5 L of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66480" y="4037040"/>
            <a:ext cx="1992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5 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7" name="Group 12"/>
          <p:cNvGrpSpPr/>
          <p:nvPr/>
        </p:nvGrpSpPr>
        <p:grpSpPr>
          <a:xfrm>
            <a:off x="2233440" y="3708360"/>
            <a:ext cx="2070000" cy="1364760"/>
            <a:chOff x="2233440" y="3708360"/>
            <a:chExt cx="2070000" cy="1364760"/>
          </a:xfrm>
        </p:grpSpPr>
        <p:grpSp>
          <p:nvGrpSpPr>
            <p:cNvPr id="408" name="Group 7"/>
            <p:cNvGrpSpPr/>
            <p:nvPr/>
          </p:nvGrpSpPr>
          <p:grpSpPr>
            <a:xfrm>
              <a:off x="2233440" y="3708360"/>
              <a:ext cx="295200" cy="1364760"/>
              <a:chOff x="2233440" y="3708360"/>
              <a:chExt cx="295200" cy="1364760"/>
            </a:xfrm>
          </p:grpSpPr>
          <p:sp>
            <p:nvSpPr>
              <p:cNvPr id="409" name="Arc 5"/>
              <p:cNvSpPr/>
              <p:nvPr/>
            </p:nvSpPr>
            <p:spPr>
              <a:xfrm>
                <a:off x="2233440" y="370836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0" name="Arc 6"/>
              <p:cNvSpPr/>
              <p:nvPr/>
            </p:nvSpPr>
            <p:spPr>
              <a:xfrm rot="10800000">
                <a:off x="2238120" y="4387320"/>
                <a:ext cx="2905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Line 8"/>
            <p:cNvSpPr/>
            <p:nvPr/>
          </p:nvSpPr>
          <p:spPr>
            <a:xfrm>
              <a:off x="2295360" y="4395960"/>
              <a:ext cx="1909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12" name="Group 11"/>
            <p:cNvGrpSpPr/>
            <p:nvPr/>
          </p:nvGrpSpPr>
          <p:grpSpPr>
            <a:xfrm>
              <a:off x="3997440" y="3708360"/>
              <a:ext cx="306000" cy="1364760"/>
              <a:chOff x="3997440" y="3708360"/>
              <a:chExt cx="306000" cy="1364760"/>
            </a:xfrm>
          </p:grpSpPr>
          <p:sp>
            <p:nvSpPr>
              <p:cNvPr id="413" name="Arc 9"/>
              <p:cNvSpPr/>
              <p:nvPr/>
            </p:nvSpPr>
            <p:spPr>
              <a:xfrm>
                <a:off x="3997440" y="370836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4" name="Arc 10"/>
              <p:cNvSpPr/>
              <p:nvPr/>
            </p:nvSpPr>
            <p:spPr>
              <a:xfrm rot="10800000">
                <a:off x="4014360" y="438732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Rectangle 13"/>
          <p:cNvSpPr/>
          <p:nvPr/>
        </p:nvSpPr>
        <p:spPr>
          <a:xfrm>
            <a:off x="2320560" y="4376880"/>
            <a:ext cx="1992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2.4 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2288520" y="3816360"/>
            <a:ext cx="18572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7" name="Group 22"/>
          <p:cNvGrpSpPr/>
          <p:nvPr/>
        </p:nvGrpSpPr>
        <p:grpSpPr>
          <a:xfrm>
            <a:off x="4341960" y="3692520"/>
            <a:ext cx="2001600" cy="1364760"/>
            <a:chOff x="4341960" y="3692520"/>
            <a:chExt cx="2001600" cy="1364760"/>
          </a:xfrm>
        </p:grpSpPr>
        <p:grpSp>
          <p:nvGrpSpPr>
            <p:cNvPr id="418" name="Group 17"/>
            <p:cNvGrpSpPr/>
            <p:nvPr/>
          </p:nvGrpSpPr>
          <p:grpSpPr>
            <a:xfrm>
              <a:off x="4341960" y="3692520"/>
              <a:ext cx="285480" cy="1364760"/>
              <a:chOff x="4341960" y="3692520"/>
              <a:chExt cx="285480" cy="1364760"/>
            </a:xfrm>
          </p:grpSpPr>
          <p:sp>
            <p:nvSpPr>
              <p:cNvPr id="419" name="Arc 15"/>
              <p:cNvSpPr/>
              <p:nvPr/>
            </p:nvSpPr>
            <p:spPr>
              <a:xfrm>
                <a:off x="4341960" y="3692520"/>
                <a:ext cx="27936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0" name="Arc 16"/>
              <p:cNvSpPr/>
              <p:nvPr/>
            </p:nvSpPr>
            <p:spPr>
              <a:xfrm rot="10800000">
                <a:off x="4348080" y="4371480"/>
                <a:ext cx="27936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Line 18"/>
            <p:cNvSpPr/>
            <p:nvPr/>
          </p:nvSpPr>
          <p:spPr>
            <a:xfrm>
              <a:off x="4402080" y="4379760"/>
              <a:ext cx="18464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22" name="Group 21"/>
            <p:cNvGrpSpPr/>
            <p:nvPr/>
          </p:nvGrpSpPr>
          <p:grpSpPr>
            <a:xfrm>
              <a:off x="6046920" y="3692520"/>
              <a:ext cx="296640" cy="1364760"/>
              <a:chOff x="6046920" y="3692520"/>
              <a:chExt cx="296640" cy="1364760"/>
            </a:xfrm>
          </p:grpSpPr>
          <p:sp>
            <p:nvSpPr>
              <p:cNvPr id="423" name="Arc 19"/>
              <p:cNvSpPr/>
              <p:nvPr/>
            </p:nvSpPr>
            <p:spPr>
              <a:xfrm>
                <a:off x="6046920" y="3692520"/>
                <a:ext cx="27936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4" name="Arc 20"/>
              <p:cNvSpPr/>
              <p:nvPr/>
            </p:nvSpPr>
            <p:spPr>
              <a:xfrm rot="10800000">
                <a:off x="6064200" y="4371480"/>
                <a:ext cx="27936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5" name="Rectangle 23"/>
          <p:cNvSpPr/>
          <p:nvPr/>
        </p:nvSpPr>
        <p:spPr>
          <a:xfrm>
            <a:off x="4445640" y="4359240"/>
            <a:ext cx="18572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Rectangle 24"/>
          <p:cNvSpPr/>
          <p:nvPr/>
        </p:nvSpPr>
        <p:spPr>
          <a:xfrm>
            <a:off x="4326840" y="3849840"/>
            <a:ext cx="21283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7" name="Group 32"/>
          <p:cNvGrpSpPr/>
          <p:nvPr/>
        </p:nvGrpSpPr>
        <p:grpSpPr>
          <a:xfrm>
            <a:off x="6367320" y="3710160"/>
            <a:ext cx="2219400" cy="1364760"/>
            <a:chOff x="6367320" y="3710160"/>
            <a:chExt cx="2219400" cy="1364760"/>
          </a:xfrm>
        </p:grpSpPr>
        <p:grpSp>
          <p:nvGrpSpPr>
            <p:cNvPr id="428" name="Group 27"/>
            <p:cNvGrpSpPr/>
            <p:nvPr/>
          </p:nvGrpSpPr>
          <p:grpSpPr>
            <a:xfrm>
              <a:off x="6367320" y="3710160"/>
              <a:ext cx="316080" cy="1364760"/>
              <a:chOff x="6367320" y="3710160"/>
              <a:chExt cx="316080" cy="1364760"/>
            </a:xfrm>
          </p:grpSpPr>
          <p:sp>
            <p:nvSpPr>
              <p:cNvPr id="429" name="Arc 25"/>
              <p:cNvSpPr/>
              <p:nvPr/>
            </p:nvSpPr>
            <p:spPr>
              <a:xfrm>
                <a:off x="6367320" y="3710160"/>
                <a:ext cx="30960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0" name="Arc 26"/>
              <p:cNvSpPr/>
              <p:nvPr/>
            </p:nvSpPr>
            <p:spPr>
              <a:xfrm rot="10800000">
                <a:off x="6372360" y="4389120"/>
                <a:ext cx="3110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Line 28"/>
            <p:cNvSpPr/>
            <p:nvPr/>
          </p:nvSpPr>
          <p:spPr>
            <a:xfrm>
              <a:off x="6435720" y="4397400"/>
              <a:ext cx="2046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32" name="Group 31"/>
            <p:cNvGrpSpPr/>
            <p:nvPr/>
          </p:nvGrpSpPr>
          <p:grpSpPr>
            <a:xfrm>
              <a:off x="8258040" y="3710160"/>
              <a:ext cx="328680" cy="1364760"/>
              <a:chOff x="8258040" y="3710160"/>
              <a:chExt cx="328680" cy="1364760"/>
            </a:xfrm>
          </p:grpSpPr>
          <p:sp>
            <p:nvSpPr>
              <p:cNvPr id="433" name="Arc 29"/>
              <p:cNvSpPr/>
              <p:nvPr/>
            </p:nvSpPr>
            <p:spPr>
              <a:xfrm>
                <a:off x="8258040" y="3710160"/>
                <a:ext cx="30960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" name="Arc 30"/>
              <p:cNvSpPr/>
              <p:nvPr/>
            </p:nvSpPr>
            <p:spPr>
              <a:xfrm rot="10800000">
                <a:off x="8277120" y="4389120"/>
                <a:ext cx="30960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Rectangle 33"/>
          <p:cNvSpPr/>
          <p:nvPr/>
        </p:nvSpPr>
        <p:spPr>
          <a:xfrm>
            <a:off x="6469920" y="4375080"/>
            <a:ext cx="21283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Rectangle 34"/>
          <p:cNvSpPr/>
          <p:nvPr/>
        </p:nvSpPr>
        <p:spPr>
          <a:xfrm>
            <a:off x="6372000" y="3813120"/>
            <a:ext cx="22640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2.4 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Rectangle 35"/>
          <p:cNvSpPr/>
          <p:nvPr/>
        </p:nvSpPr>
        <p:spPr>
          <a:xfrm>
            <a:off x="4005720" y="5308560"/>
            <a:ext cx="26146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 8.75 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8" name="Group 46"/>
          <p:cNvGrpSpPr/>
          <p:nvPr/>
        </p:nvGrpSpPr>
        <p:grpSpPr>
          <a:xfrm>
            <a:off x="2232000" y="3722760"/>
            <a:ext cx="2079720" cy="1384920"/>
            <a:chOff x="2232000" y="3722760"/>
            <a:chExt cx="2079720" cy="1384920"/>
          </a:xfrm>
        </p:grpSpPr>
        <p:grpSp>
          <p:nvGrpSpPr>
            <p:cNvPr id="439" name="Group 43"/>
            <p:cNvGrpSpPr/>
            <p:nvPr/>
          </p:nvGrpSpPr>
          <p:grpSpPr>
            <a:xfrm>
              <a:off x="2232000" y="3722760"/>
              <a:ext cx="2070000" cy="1364760"/>
              <a:chOff x="2232000" y="3722760"/>
              <a:chExt cx="2070000" cy="1364760"/>
            </a:xfrm>
          </p:grpSpPr>
          <p:grpSp>
            <p:nvGrpSpPr>
              <p:cNvPr id="440" name="Group 38"/>
              <p:cNvGrpSpPr/>
              <p:nvPr/>
            </p:nvGrpSpPr>
            <p:grpSpPr>
              <a:xfrm>
                <a:off x="2232000" y="3722760"/>
                <a:ext cx="294840" cy="1364760"/>
                <a:chOff x="2232000" y="3722760"/>
                <a:chExt cx="294840" cy="1364760"/>
              </a:xfrm>
            </p:grpSpPr>
            <p:sp>
              <p:nvSpPr>
                <p:cNvPr id="441" name="Arc 36"/>
                <p:cNvSpPr/>
                <p:nvPr/>
              </p:nvSpPr>
              <p:spPr>
                <a:xfrm>
                  <a:off x="2232000" y="3722760"/>
                  <a:ext cx="28908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Arc 37"/>
                <p:cNvSpPr/>
                <p:nvPr/>
              </p:nvSpPr>
              <p:spPr>
                <a:xfrm rot="10800000">
                  <a:off x="2236320" y="4401720"/>
                  <a:ext cx="29052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39"/>
              <p:cNvSpPr/>
              <p:nvPr/>
            </p:nvSpPr>
            <p:spPr>
              <a:xfrm>
                <a:off x="2293920" y="4410000"/>
                <a:ext cx="19098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444" name="Group 42"/>
              <p:cNvGrpSpPr/>
              <p:nvPr/>
            </p:nvGrpSpPr>
            <p:grpSpPr>
              <a:xfrm>
                <a:off x="3995640" y="3722760"/>
                <a:ext cx="306360" cy="1364760"/>
                <a:chOff x="3995640" y="3722760"/>
                <a:chExt cx="306360" cy="1364760"/>
              </a:xfrm>
            </p:grpSpPr>
            <p:sp>
              <p:nvSpPr>
                <p:cNvPr id="445" name="Arc 40"/>
                <p:cNvSpPr/>
                <p:nvPr/>
              </p:nvSpPr>
              <p:spPr>
                <a:xfrm>
                  <a:off x="3995640" y="3722760"/>
                  <a:ext cx="28908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Arc 41"/>
                <p:cNvSpPr/>
                <p:nvPr/>
              </p:nvSpPr>
              <p:spPr>
                <a:xfrm rot="10800000">
                  <a:off x="4013280" y="4401720"/>
                  <a:ext cx="28872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Rectangle 44"/>
            <p:cNvSpPr/>
            <p:nvPr/>
          </p:nvSpPr>
          <p:spPr>
            <a:xfrm>
              <a:off x="2319120" y="4390920"/>
              <a:ext cx="199260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22.4 L 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8" name="Rectangle 45"/>
            <p:cNvSpPr/>
            <p:nvPr/>
          </p:nvSpPr>
          <p:spPr>
            <a:xfrm>
              <a:off x="2286720" y="3830760"/>
              <a:ext cx="185724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1 mol 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49" name="Group 57"/>
          <p:cNvGrpSpPr/>
          <p:nvPr/>
        </p:nvGrpSpPr>
        <p:grpSpPr>
          <a:xfrm>
            <a:off x="6365520" y="3713040"/>
            <a:ext cx="2264040" cy="1369440"/>
            <a:chOff x="6365520" y="3713040"/>
            <a:chExt cx="2264040" cy="1369440"/>
          </a:xfrm>
        </p:grpSpPr>
        <p:grpSp>
          <p:nvGrpSpPr>
            <p:cNvPr id="450" name="Group 54"/>
            <p:cNvGrpSpPr/>
            <p:nvPr/>
          </p:nvGrpSpPr>
          <p:grpSpPr>
            <a:xfrm>
              <a:off x="6373800" y="3713040"/>
              <a:ext cx="2219400" cy="1365120"/>
              <a:chOff x="6373800" y="3713040"/>
              <a:chExt cx="2219400" cy="1365120"/>
            </a:xfrm>
          </p:grpSpPr>
          <p:grpSp>
            <p:nvGrpSpPr>
              <p:cNvPr id="451" name="Group 49"/>
              <p:cNvGrpSpPr/>
              <p:nvPr/>
            </p:nvGrpSpPr>
            <p:grpSpPr>
              <a:xfrm>
                <a:off x="6373800" y="3713040"/>
                <a:ext cx="315720" cy="1365120"/>
                <a:chOff x="6373800" y="3713040"/>
                <a:chExt cx="315720" cy="1365120"/>
              </a:xfrm>
            </p:grpSpPr>
            <p:sp>
              <p:nvSpPr>
                <p:cNvPr id="452" name="Arc 47"/>
                <p:cNvSpPr/>
                <p:nvPr/>
              </p:nvSpPr>
              <p:spPr>
                <a:xfrm>
                  <a:off x="6373800" y="3713040"/>
                  <a:ext cx="30960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Arc 48"/>
                <p:cNvSpPr/>
                <p:nvPr/>
              </p:nvSpPr>
              <p:spPr>
                <a:xfrm rot="10800000">
                  <a:off x="6378120" y="4392360"/>
                  <a:ext cx="31140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Line 50"/>
              <p:cNvSpPr/>
              <p:nvPr/>
            </p:nvSpPr>
            <p:spPr>
              <a:xfrm>
                <a:off x="6442200" y="4400640"/>
                <a:ext cx="20462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455" name="Group 53"/>
              <p:cNvGrpSpPr/>
              <p:nvPr/>
            </p:nvGrpSpPr>
            <p:grpSpPr>
              <a:xfrm>
                <a:off x="8264520" y="3713040"/>
                <a:ext cx="328680" cy="1365120"/>
                <a:chOff x="8264520" y="3713040"/>
                <a:chExt cx="328680" cy="1365120"/>
              </a:xfrm>
            </p:grpSpPr>
            <p:sp>
              <p:nvSpPr>
                <p:cNvPr id="456" name="Arc 51"/>
                <p:cNvSpPr/>
                <p:nvPr/>
              </p:nvSpPr>
              <p:spPr>
                <a:xfrm>
                  <a:off x="8264520" y="3713040"/>
                  <a:ext cx="30960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rc 52"/>
                <p:cNvSpPr/>
                <p:nvPr/>
              </p:nvSpPr>
              <p:spPr>
                <a:xfrm rot="10800000">
                  <a:off x="8283600" y="4392360"/>
                  <a:ext cx="30960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8" name="Rectangle 55"/>
            <p:cNvSpPr/>
            <p:nvPr/>
          </p:nvSpPr>
          <p:spPr>
            <a:xfrm>
              <a:off x="6463800" y="4365720"/>
              <a:ext cx="212832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1 mol C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" name="Rectangle 56"/>
            <p:cNvSpPr/>
            <p:nvPr/>
          </p:nvSpPr>
          <p:spPr>
            <a:xfrm>
              <a:off x="6365520" y="3803760"/>
              <a:ext cx="226404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22.4 L C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vogadro told 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al volumes of gas, at the same temperature and pressure contain the same number of particle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les are numbers of partic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can treat reactions as if they happen liters at a time, as long as you keep the temperature and pressure the same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7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iters of 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 STP are produced by completely burning  17.5 L of C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096560" y="4037040"/>
            <a:ext cx="22640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5 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5" name="Group 12"/>
          <p:cNvGrpSpPr/>
          <p:nvPr/>
        </p:nvGrpSpPr>
        <p:grpSpPr>
          <a:xfrm>
            <a:off x="3389400" y="3708360"/>
            <a:ext cx="2069640" cy="1364760"/>
            <a:chOff x="3389400" y="3708360"/>
            <a:chExt cx="2069640" cy="1364760"/>
          </a:xfrm>
        </p:grpSpPr>
        <p:grpSp>
          <p:nvGrpSpPr>
            <p:cNvPr id="466" name="Group 7"/>
            <p:cNvGrpSpPr/>
            <p:nvPr/>
          </p:nvGrpSpPr>
          <p:grpSpPr>
            <a:xfrm>
              <a:off x="3389400" y="3708360"/>
              <a:ext cx="294840" cy="1364760"/>
              <a:chOff x="3389400" y="3708360"/>
              <a:chExt cx="294840" cy="1364760"/>
            </a:xfrm>
          </p:grpSpPr>
          <p:sp>
            <p:nvSpPr>
              <p:cNvPr id="467" name="Arc 5"/>
              <p:cNvSpPr/>
              <p:nvPr/>
            </p:nvSpPr>
            <p:spPr>
              <a:xfrm>
                <a:off x="3389400" y="370836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8" name="Arc 6"/>
              <p:cNvSpPr/>
              <p:nvPr/>
            </p:nvSpPr>
            <p:spPr>
              <a:xfrm rot="10800000">
                <a:off x="3393720" y="4387320"/>
                <a:ext cx="2905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Line 8"/>
            <p:cNvSpPr/>
            <p:nvPr/>
          </p:nvSpPr>
          <p:spPr>
            <a:xfrm>
              <a:off x="3451320" y="4395960"/>
              <a:ext cx="1909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70" name="Group 11"/>
            <p:cNvGrpSpPr/>
            <p:nvPr/>
          </p:nvGrpSpPr>
          <p:grpSpPr>
            <a:xfrm>
              <a:off x="5153040" y="3708360"/>
              <a:ext cx="306000" cy="1364760"/>
              <a:chOff x="5153040" y="3708360"/>
              <a:chExt cx="306000" cy="1364760"/>
            </a:xfrm>
          </p:grpSpPr>
          <p:sp>
            <p:nvSpPr>
              <p:cNvPr id="471" name="Arc 9"/>
              <p:cNvSpPr/>
              <p:nvPr/>
            </p:nvSpPr>
            <p:spPr>
              <a:xfrm>
                <a:off x="5153040" y="370836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" name="Arc 10"/>
              <p:cNvSpPr/>
              <p:nvPr/>
            </p:nvSpPr>
            <p:spPr>
              <a:xfrm rot="10800000">
                <a:off x="5169960" y="438732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Rectangle 13"/>
          <p:cNvSpPr/>
          <p:nvPr/>
        </p:nvSpPr>
        <p:spPr>
          <a:xfrm>
            <a:off x="3475800" y="4376880"/>
            <a:ext cx="1700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3443760" y="3816360"/>
            <a:ext cx="17229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L C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5806800" y="4051440"/>
            <a:ext cx="2637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 17.5 L C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c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can also change between particles and mole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.02 x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lecul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ula uni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1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6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6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1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2.8 g of 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burned completely, how many water molecules will be mad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6"/>
          <p:cNvSpPr/>
          <p:nvPr/>
        </p:nvSpPr>
        <p:spPr>
          <a:xfrm>
            <a:off x="457200" y="5105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cles 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457560" y="99072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ters 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57200" y="31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ms 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858000" y="5181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cles 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7160040" y="106668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ters 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7162920" y="31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ms 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2743200" y="31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s 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952880" y="31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s 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1981080" y="32004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4191120" y="32004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6553080" y="32004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AutoShape 18"/>
          <p:cNvSpPr/>
          <p:nvPr/>
        </p:nvSpPr>
        <p:spPr>
          <a:xfrm rot="3816600">
            <a:off x="1523880" y="2057040"/>
            <a:ext cx="1676160" cy="457200"/>
          </a:xfrm>
          <a:prstGeom prst="rightArrow">
            <a:avLst>
              <a:gd name="adj1" fmla="val 46806"/>
              <a:gd name="adj2" fmla="val 411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AutoShape 20"/>
          <p:cNvSpPr/>
          <p:nvPr/>
        </p:nvSpPr>
        <p:spPr>
          <a:xfrm flipV="1" rot="17783400">
            <a:off x="1447560" y="4267080"/>
            <a:ext cx="1676520" cy="457200"/>
          </a:xfrm>
          <a:prstGeom prst="rightArrow">
            <a:avLst>
              <a:gd name="adj1" fmla="val 46806"/>
              <a:gd name="adj2" fmla="val 4116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AutoShape 21"/>
          <p:cNvSpPr/>
          <p:nvPr/>
        </p:nvSpPr>
        <p:spPr>
          <a:xfrm flipV="1" rot="17783400">
            <a:off x="6019560" y="2133360"/>
            <a:ext cx="1676520" cy="457200"/>
          </a:xfrm>
          <a:prstGeom prst="rightArrow">
            <a:avLst>
              <a:gd name="adj1" fmla="val 46806"/>
              <a:gd name="adj2" fmla="val 4116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AutoShape 22"/>
          <p:cNvSpPr/>
          <p:nvPr/>
        </p:nvSpPr>
        <p:spPr>
          <a:xfrm rot="3816600">
            <a:off x="5943240" y="4343040"/>
            <a:ext cx="1676160" cy="457200"/>
          </a:xfrm>
          <a:prstGeom prst="rightArrow">
            <a:avLst>
              <a:gd name="adj1" fmla="val 46806"/>
              <a:gd name="adj2" fmla="val 411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251460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2.4 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5562720" y="1828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2.4 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2286000" y="4572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.02 x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4724280" y="4572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.02 x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1752480" y="2743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85800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Text Box 29"/>
          <p:cNvSpPr/>
          <p:nvPr/>
        </p:nvSpPr>
        <p:spPr>
          <a:xfrm>
            <a:off x="3657600" y="2666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qu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miting Reag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73040" y="13712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you are given one dozen loaves of bread, a gallon of mustard and three pieces of salami, how many salami sandwiches can you mak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reag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s the reactant you run out of first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ss reag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s the one you have left ov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limiting reagent determines how much product you can mak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8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you find ou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 two stoichiometry problem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one that makes the least product is the limiting reagent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examp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pper reacts with sulfur to form copper ( I ) sulfide. If 10.6 g of copper reacts with 3.83 g S how much product will be formed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5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5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8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04280" y="537840"/>
            <a:ext cx="8299800" cy="222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10.6 g of copper reacts with 3.83 g S. How many grams of product will be form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u + S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u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88800" y="2916360"/>
            <a:ext cx="183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.6 g C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08" name="Group 11"/>
          <p:cNvGrpSpPr/>
          <p:nvPr/>
        </p:nvGrpSpPr>
        <p:grpSpPr>
          <a:xfrm>
            <a:off x="2028960" y="2570040"/>
            <a:ext cx="2069640" cy="1365120"/>
            <a:chOff x="2028960" y="2570040"/>
            <a:chExt cx="2069640" cy="1365120"/>
          </a:xfrm>
        </p:grpSpPr>
        <p:grpSp>
          <p:nvGrpSpPr>
            <p:cNvPr id="509" name="Group 6"/>
            <p:cNvGrpSpPr/>
            <p:nvPr/>
          </p:nvGrpSpPr>
          <p:grpSpPr>
            <a:xfrm>
              <a:off x="2028960" y="2570040"/>
              <a:ext cx="294840" cy="1365120"/>
              <a:chOff x="2028960" y="2570040"/>
              <a:chExt cx="294840" cy="1365120"/>
            </a:xfrm>
          </p:grpSpPr>
          <p:sp>
            <p:nvSpPr>
              <p:cNvPr id="510" name="Arc 4"/>
              <p:cNvSpPr/>
              <p:nvPr/>
            </p:nvSpPr>
            <p:spPr>
              <a:xfrm>
                <a:off x="2028960" y="257004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Arc 5"/>
              <p:cNvSpPr/>
              <p:nvPr/>
            </p:nvSpPr>
            <p:spPr>
              <a:xfrm rot="10800000">
                <a:off x="2033280" y="3249360"/>
                <a:ext cx="2905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Line 7"/>
            <p:cNvSpPr/>
            <p:nvPr/>
          </p:nvSpPr>
          <p:spPr>
            <a:xfrm>
              <a:off x="2090880" y="3257640"/>
              <a:ext cx="1909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13" name="Group 10"/>
            <p:cNvGrpSpPr/>
            <p:nvPr/>
          </p:nvGrpSpPr>
          <p:grpSpPr>
            <a:xfrm>
              <a:off x="3792600" y="2570040"/>
              <a:ext cx="306000" cy="1365120"/>
              <a:chOff x="3792600" y="2570040"/>
              <a:chExt cx="306000" cy="1365120"/>
            </a:xfrm>
          </p:grpSpPr>
          <p:sp>
            <p:nvSpPr>
              <p:cNvPr id="514" name="Arc 8"/>
              <p:cNvSpPr/>
              <p:nvPr/>
            </p:nvSpPr>
            <p:spPr>
              <a:xfrm>
                <a:off x="3792600" y="257004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5" name="Arc 9"/>
              <p:cNvSpPr/>
              <p:nvPr/>
            </p:nvSpPr>
            <p:spPr>
              <a:xfrm rot="10800000">
                <a:off x="3809520" y="324936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" name="Rectangle 12"/>
          <p:cNvSpPr/>
          <p:nvPr/>
        </p:nvSpPr>
        <p:spPr>
          <a:xfrm>
            <a:off x="2071800" y="3240000"/>
            <a:ext cx="2044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63.55g C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2108160" y="271296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8" name="Group 21"/>
          <p:cNvGrpSpPr/>
          <p:nvPr/>
        </p:nvGrpSpPr>
        <p:grpSpPr>
          <a:xfrm>
            <a:off x="4119480" y="2589120"/>
            <a:ext cx="2052720" cy="1365120"/>
            <a:chOff x="4119480" y="2589120"/>
            <a:chExt cx="2052720" cy="1365120"/>
          </a:xfrm>
        </p:grpSpPr>
        <p:grpSp>
          <p:nvGrpSpPr>
            <p:cNvPr id="519" name="Group 16"/>
            <p:cNvGrpSpPr/>
            <p:nvPr/>
          </p:nvGrpSpPr>
          <p:grpSpPr>
            <a:xfrm>
              <a:off x="4119480" y="2589120"/>
              <a:ext cx="293760" cy="1365120"/>
              <a:chOff x="4119480" y="2589120"/>
              <a:chExt cx="293760" cy="1365120"/>
            </a:xfrm>
          </p:grpSpPr>
          <p:sp>
            <p:nvSpPr>
              <p:cNvPr id="520" name="Arc 14"/>
              <p:cNvSpPr/>
              <p:nvPr/>
            </p:nvSpPr>
            <p:spPr>
              <a:xfrm>
                <a:off x="4119480" y="2589120"/>
                <a:ext cx="285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1" name="Arc 15"/>
              <p:cNvSpPr/>
              <p:nvPr/>
            </p:nvSpPr>
            <p:spPr>
              <a:xfrm rot="10800000">
                <a:off x="4125960" y="3268440"/>
                <a:ext cx="2872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Line 17"/>
            <p:cNvSpPr/>
            <p:nvPr/>
          </p:nvSpPr>
          <p:spPr>
            <a:xfrm>
              <a:off x="4181400" y="3276720"/>
              <a:ext cx="18939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23" name="Group 20"/>
            <p:cNvGrpSpPr/>
            <p:nvPr/>
          </p:nvGrpSpPr>
          <p:grpSpPr>
            <a:xfrm>
              <a:off x="5867280" y="2589120"/>
              <a:ext cx="304920" cy="1365120"/>
              <a:chOff x="5867280" y="2589120"/>
              <a:chExt cx="304920" cy="1365120"/>
            </a:xfrm>
          </p:grpSpPr>
          <p:sp>
            <p:nvSpPr>
              <p:cNvPr id="524" name="Arc 18"/>
              <p:cNvSpPr/>
              <p:nvPr/>
            </p:nvSpPr>
            <p:spPr>
              <a:xfrm>
                <a:off x="5867280" y="258912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5" name="Arc 19"/>
              <p:cNvSpPr/>
              <p:nvPr/>
            </p:nvSpPr>
            <p:spPr>
              <a:xfrm rot="10800000">
                <a:off x="5886360" y="3268440"/>
                <a:ext cx="285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Rectangle 22"/>
          <p:cNvSpPr/>
          <p:nvPr/>
        </p:nvSpPr>
        <p:spPr>
          <a:xfrm>
            <a:off x="4128840" y="3238560"/>
            <a:ext cx="1911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C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4068720" y="2711520"/>
            <a:ext cx="21891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 mol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8" name="Group 31"/>
          <p:cNvGrpSpPr/>
          <p:nvPr/>
        </p:nvGrpSpPr>
        <p:grpSpPr>
          <a:xfrm>
            <a:off x="6197760" y="2556000"/>
            <a:ext cx="2628360" cy="1364760"/>
            <a:chOff x="6197760" y="2556000"/>
            <a:chExt cx="2628360" cy="1364760"/>
          </a:xfrm>
        </p:grpSpPr>
        <p:grpSp>
          <p:nvGrpSpPr>
            <p:cNvPr id="529" name="Group 26"/>
            <p:cNvGrpSpPr/>
            <p:nvPr/>
          </p:nvGrpSpPr>
          <p:grpSpPr>
            <a:xfrm>
              <a:off x="6197760" y="2556000"/>
              <a:ext cx="374040" cy="1364760"/>
              <a:chOff x="6197760" y="2556000"/>
              <a:chExt cx="374040" cy="1364760"/>
            </a:xfrm>
          </p:grpSpPr>
          <p:sp>
            <p:nvSpPr>
              <p:cNvPr id="530" name="Arc 24"/>
              <p:cNvSpPr/>
              <p:nvPr/>
            </p:nvSpPr>
            <p:spPr>
              <a:xfrm>
                <a:off x="6197760" y="2556000"/>
                <a:ext cx="3664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1" name="Arc 25"/>
              <p:cNvSpPr/>
              <p:nvPr/>
            </p:nvSpPr>
            <p:spPr>
              <a:xfrm rot="10800000">
                <a:off x="6203520" y="3234960"/>
                <a:ext cx="3682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Line 27"/>
            <p:cNvSpPr/>
            <p:nvPr/>
          </p:nvSpPr>
          <p:spPr>
            <a:xfrm>
              <a:off x="6278400" y="3243240"/>
              <a:ext cx="2424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33" name="Group 30"/>
            <p:cNvGrpSpPr/>
            <p:nvPr/>
          </p:nvGrpSpPr>
          <p:grpSpPr>
            <a:xfrm>
              <a:off x="8437680" y="2556000"/>
              <a:ext cx="388440" cy="1364760"/>
              <a:chOff x="8437680" y="2556000"/>
              <a:chExt cx="388440" cy="1364760"/>
            </a:xfrm>
          </p:grpSpPr>
          <p:sp>
            <p:nvSpPr>
              <p:cNvPr id="534" name="Arc 28"/>
              <p:cNvSpPr/>
              <p:nvPr/>
            </p:nvSpPr>
            <p:spPr>
              <a:xfrm>
                <a:off x="8437680" y="2556000"/>
                <a:ext cx="3664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5" name="Arc 29"/>
              <p:cNvSpPr/>
              <p:nvPr/>
            </p:nvSpPr>
            <p:spPr>
              <a:xfrm rot="10800000">
                <a:off x="8459280" y="3234960"/>
                <a:ext cx="366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Rectangle 32"/>
          <p:cNvSpPr/>
          <p:nvPr/>
        </p:nvSpPr>
        <p:spPr>
          <a:xfrm>
            <a:off x="6467760" y="3276720"/>
            <a:ext cx="2086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 mol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6148080" y="2714760"/>
            <a:ext cx="2637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59.16 g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062400" y="3897360"/>
            <a:ext cx="26420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 13.3 g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Rectangle 35"/>
          <p:cNvSpPr/>
          <p:nvPr/>
        </p:nvSpPr>
        <p:spPr>
          <a:xfrm>
            <a:off x="419040" y="4869000"/>
            <a:ext cx="161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83 g 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0" name="Group 43"/>
          <p:cNvGrpSpPr/>
          <p:nvPr/>
        </p:nvGrpSpPr>
        <p:grpSpPr>
          <a:xfrm>
            <a:off x="2058840" y="4522680"/>
            <a:ext cx="2070000" cy="1365120"/>
            <a:chOff x="2058840" y="4522680"/>
            <a:chExt cx="2070000" cy="1365120"/>
          </a:xfrm>
        </p:grpSpPr>
        <p:grpSp>
          <p:nvGrpSpPr>
            <p:cNvPr id="541" name="Group 38"/>
            <p:cNvGrpSpPr/>
            <p:nvPr/>
          </p:nvGrpSpPr>
          <p:grpSpPr>
            <a:xfrm>
              <a:off x="2058840" y="4522680"/>
              <a:ext cx="295200" cy="1365120"/>
              <a:chOff x="2058840" y="4522680"/>
              <a:chExt cx="295200" cy="1365120"/>
            </a:xfrm>
          </p:grpSpPr>
          <p:sp>
            <p:nvSpPr>
              <p:cNvPr id="542" name="Arc 36"/>
              <p:cNvSpPr/>
              <p:nvPr/>
            </p:nvSpPr>
            <p:spPr>
              <a:xfrm>
                <a:off x="2058840" y="452268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3" name="Arc 37"/>
              <p:cNvSpPr/>
              <p:nvPr/>
            </p:nvSpPr>
            <p:spPr>
              <a:xfrm rot="10800000">
                <a:off x="2063520" y="5202000"/>
                <a:ext cx="2905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Line 39"/>
            <p:cNvSpPr/>
            <p:nvPr/>
          </p:nvSpPr>
          <p:spPr>
            <a:xfrm>
              <a:off x="2120760" y="5210280"/>
              <a:ext cx="1909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45" name="Group 42"/>
            <p:cNvGrpSpPr/>
            <p:nvPr/>
          </p:nvGrpSpPr>
          <p:grpSpPr>
            <a:xfrm>
              <a:off x="3822840" y="4522680"/>
              <a:ext cx="306000" cy="1365120"/>
              <a:chOff x="3822840" y="4522680"/>
              <a:chExt cx="306000" cy="1365120"/>
            </a:xfrm>
          </p:grpSpPr>
          <p:sp>
            <p:nvSpPr>
              <p:cNvPr id="546" name="Arc 40"/>
              <p:cNvSpPr/>
              <p:nvPr/>
            </p:nvSpPr>
            <p:spPr>
              <a:xfrm>
                <a:off x="3822840" y="452268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7" name="Arc 41"/>
              <p:cNvSpPr/>
              <p:nvPr/>
            </p:nvSpPr>
            <p:spPr>
              <a:xfrm rot="10800000">
                <a:off x="3839760" y="520200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Rectangle 44"/>
          <p:cNvSpPr/>
          <p:nvPr/>
        </p:nvSpPr>
        <p:spPr>
          <a:xfrm>
            <a:off x="2101680" y="5192640"/>
            <a:ext cx="181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32.06g 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Rectangle 45"/>
          <p:cNvSpPr/>
          <p:nvPr/>
        </p:nvSpPr>
        <p:spPr>
          <a:xfrm>
            <a:off x="2138760" y="4665600"/>
            <a:ext cx="156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4149720" y="4541760"/>
            <a:ext cx="2052720" cy="1365120"/>
            <a:chOff x="4149720" y="4541760"/>
            <a:chExt cx="2052720" cy="1365120"/>
          </a:xfrm>
        </p:grpSpPr>
        <p:grpSp>
          <p:nvGrpSpPr>
            <p:cNvPr id="551" name="Group 48"/>
            <p:cNvGrpSpPr/>
            <p:nvPr/>
          </p:nvGrpSpPr>
          <p:grpSpPr>
            <a:xfrm>
              <a:off x="4149720" y="4541760"/>
              <a:ext cx="293760" cy="1365120"/>
              <a:chOff x="4149720" y="4541760"/>
              <a:chExt cx="293760" cy="1365120"/>
            </a:xfrm>
          </p:grpSpPr>
          <p:sp>
            <p:nvSpPr>
              <p:cNvPr id="552" name="Arc 46"/>
              <p:cNvSpPr/>
              <p:nvPr/>
            </p:nvSpPr>
            <p:spPr>
              <a:xfrm>
                <a:off x="4149720" y="4541760"/>
                <a:ext cx="285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3" name="Arc 47"/>
              <p:cNvSpPr/>
              <p:nvPr/>
            </p:nvSpPr>
            <p:spPr>
              <a:xfrm rot="10800000">
                <a:off x="4156200" y="5221080"/>
                <a:ext cx="2872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Line 49"/>
            <p:cNvSpPr/>
            <p:nvPr/>
          </p:nvSpPr>
          <p:spPr>
            <a:xfrm>
              <a:off x="4211640" y="5229360"/>
              <a:ext cx="18939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55" name="Group 52"/>
            <p:cNvGrpSpPr/>
            <p:nvPr/>
          </p:nvGrpSpPr>
          <p:grpSpPr>
            <a:xfrm>
              <a:off x="5897520" y="4541760"/>
              <a:ext cx="304920" cy="1365120"/>
              <a:chOff x="5897520" y="4541760"/>
              <a:chExt cx="304920" cy="1365120"/>
            </a:xfrm>
          </p:grpSpPr>
          <p:sp>
            <p:nvSpPr>
              <p:cNvPr id="556" name="Arc 50"/>
              <p:cNvSpPr/>
              <p:nvPr/>
            </p:nvSpPr>
            <p:spPr>
              <a:xfrm>
                <a:off x="5897520" y="454176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7" name="Arc 51"/>
              <p:cNvSpPr/>
              <p:nvPr/>
            </p:nvSpPr>
            <p:spPr>
              <a:xfrm rot="10800000">
                <a:off x="5916600" y="5221080"/>
                <a:ext cx="285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8" name="Rectangle 54"/>
          <p:cNvSpPr/>
          <p:nvPr/>
        </p:nvSpPr>
        <p:spPr>
          <a:xfrm>
            <a:off x="4159080" y="5191200"/>
            <a:ext cx="16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Rectangle 55"/>
          <p:cNvSpPr/>
          <p:nvPr/>
        </p:nvSpPr>
        <p:spPr>
          <a:xfrm>
            <a:off x="4098960" y="4664160"/>
            <a:ext cx="21891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 mol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60" name="Group 63"/>
          <p:cNvGrpSpPr/>
          <p:nvPr/>
        </p:nvGrpSpPr>
        <p:grpSpPr>
          <a:xfrm>
            <a:off x="6227640" y="4508640"/>
            <a:ext cx="2628720" cy="1364760"/>
            <a:chOff x="6227640" y="4508640"/>
            <a:chExt cx="2628720" cy="1364760"/>
          </a:xfrm>
        </p:grpSpPr>
        <p:grpSp>
          <p:nvGrpSpPr>
            <p:cNvPr id="561" name="Group 58"/>
            <p:cNvGrpSpPr/>
            <p:nvPr/>
          </p:nvGrpSpPr>
          <p:grpSpPr>
            <a:xfrm>
              <a:off x="6227640" y="4508640"/>
              <a:ext cx="374400" cy="1364760"/>
              <a:chOff x="6227640" y="4508640"/>
              <a:chExt cx="374400" cy="1364760"/>
            </a:xfrm>
          </p:grpSpPr>
          <p:sp>
            <p:nvSpPr>
              <p:cNvPr id="562" name="Arc 56"/>
              <p:cNvSpPr/>
              <p:nvPr/>
            </p:nvSpPr>
            <p:spPr>
              <a:xfrm>
                <a:off x="6227640" y="4508640"/>
                <a:ext cx="366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3" name="Arc 57"/>
              <p:cNvSpPr/>
              <p:nvPr/>
            </p:nvSpPr>
            <p:spPr>
              <a:xfrm rot="10800000">
                <a:off x="6233760" y="5187600"/>
                <a:ext cx="3682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59"/>
            <p:cNvSpPr/>
            <p:nvPr/>
          </p:nvSpPr>
          <p:spPr>
            <a:xfrm>
              <a:off x="6308640" y="5195880"/>
              <a:ext cx="2424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65" name="Group 62"/>
            <p:cNvGrpSpPr/>
            <p:nvPr/>
          </p:nvGrpSpPr>
          <p:grpSpPr>
            <a:xfrm>
              <a:off x="8467560" y="4508640"/>
              <a:ext cx="388800" cy="1364760"/>
              <a:chOff x="8467560" y="4508640"/>
              <a:chExt cx="388800" cy="1364760"/>
            </a:xfrm>
          </p:grpSpPr>
          <p:sp>
            <p:nvSpPr>
              <p:cNvPr id="566" name="Arc 60"/>
              <p:cNvSpPr/>
              <p:nvPr/>
            </p:nvSpPr>
            <p:spPr>
              <a:xfrm>
                <a:off x="8467560" y="4508640"/>
                <a:ext cx="366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7" name="Arc 61"/>
              <p:cNvSpPr/>
              <p:nvPr/>
            </p:nvSpPr>
            <p:spPr>
              <a:xfrm rot="10800000">
                <a:off x="8489520" y="5187600"/>
                <a:ext cx="366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8" name="Rectangle 64"/>
          <p:cNvSpPr/>
          <p:nvPr/>
        </p:nvSpPr>
        <p:spPr>
          <a:xfrm>
            <a:off x="6498000" y="5229360"/>
            <a:ext cx="2086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 mol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Rectangle 65"/>
          <p:cNvSpPr/>
          <p:nvPr/>
        </p:nvSpPr>
        <p:spPr>
          <a:xfrm>
            <a:off x="6178320" y="4667400"/>
            <a:ext cx="2637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59.16 g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Rectangle 66"/>
          <p:cNvSpPr/>
          <p:nvPr/>
        </p:nvSpPr>
        <p:spPr>
          <a:xfrm>
            <a:off x="6040080" y="5869080"/>
            <a:ext cx="26420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 19.0 g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Rectangle 67"/>
          <p:cNvSpPr/>
          <p:nvPr/>
        </p:nvSpPr>
        <p:spPr>
          <a:xfrm>
            <a:off x="6060960" y="3895560"/>
            <a:ext cx="2642040" cy="63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= 13.3 g </a:t>
            </a: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Cu</a:t>
            </a:r>
            <a:r>
              <a:rPr b="1" lang="en-US" sz="30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AutoShape 68"/>
          <p:cNvSpPr/>
          <p:nvPr/>
        </p:nvSpPr>
        <p:spPr>
          <a:xfrm>
            <a:off x="2854440" y="0"/>
            <a:ext cx="5221080" cy="4726080"/>
          </a:xfrm>
          <a:custGeom>
            <a:avLst/>
            <a:gdLst>
              <a:gd name="textAreaLeft" fmla="*/ 1191960 w 5221080"/>
              <a:gd name="textAreaRight" fmla="*/ 4029120 w 5221080"/>
              <a:gd name="textAreaTop" fmla="*/ 1078920 h 4726080"/>
              <a:gd name="textAreaBottom" fmla="*/ 3647160 h 472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Rectangle 69"/>
          <p:cNvSpPr/>
          <p:nvPr/>
        </p:nvSpPr>
        <p:spPr>
          <a:xfrm>
            <a:off x="4444920" y="1503360"/>
            <a:ext cx="21337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Cu is Limiting Reag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+ 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wo molecules of hydrogen and one molecule of oxygen form two molecules of wat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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26440" y="38559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504080" y="3855960"/>
            <a:ext cx="237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ula uni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885480" y="3855960"/>
            <a:ext cx="1120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088240" y="3855960"/>
            <a:ext cx="97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079320" y="38559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306840" y="3855960"/>
            <a:ext cx="126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7374600" y="3855960"/>
            <a:ext cx="694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268720" y="4541760"/>
            <a:ext cx="77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031560" y="45417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333600" y="4541760"/>
            <a:ext cx="183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cu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096880" y="454176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much excess rea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he limiting reagent to find out how much excess reagent you us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tract that from the amount of excess you started wit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g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+2 HCl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+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4.87 mol of magnesium and 9.84 mol of HCl gas are reacted, how many moles of gas will be produc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limiting reagen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g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+2 HCl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+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4.87 mol of magnesium and 9.84 mol of HCl gas are reacted, how many moles of gas will be produc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excess reagent remain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10.3 g of aluminum are reacted with 51.7 g of CuS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how much copper will be produc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excess reagent will remai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3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1216080" y="522360"/>
            <a:ext cx="6702480" cy="580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iel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mount of product made in a chemical reactio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three ty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yiel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what you get in the lab when the chemicals are mix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etical yiel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what the balanced equation tells you you should mak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 yiel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=    Actual       x 100 %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Theoretic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3962520" y="5749920"/>
            <a:ext cx="23619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5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0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5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.78 g of copper is produced when 3.92 g of Al are reacted with excess copper (II) sulfa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Al + 3 Cu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3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actual yiel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theoretical yiel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percent yiel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you had started with 9.73 g of Al, how much copper would you expec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cent yield tells us how “efficient” a reaction i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cent yield can not be bigger than 100 %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Na + 2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</a:t>
            </a:r>
            <a:r>
              <a:rPr b="0" lang="en-US" sz="4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2NaOH + 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08760" y="17524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89280" y="1752480"/>
            <a:ext cx="115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208960" y="1752480"/>
            <a:ext cx="66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856920" y="1752480"/>
            <a:ext cx="97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02640" y="25146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8080" y="2514600"/>
            <a:ext cx="259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ula uni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198960" y="2514600"/>
            <a:ext cx="135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O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4492800" y="2514600"/>
            <a:ext cx="77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255640" y="25146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558400" y="2514600"/>
            <a:ext cx="168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7320960" y="2514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2894040" y="1752480"/>
            <a:ext cx="77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3656880" y="17524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035240" y="1752480"/>
            <a:ext cx="183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cu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5867280" y="1752480"/>
            <a:ext cx="99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ok at it different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ze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hydrogen and 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ze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oxygen form 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ze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wat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.0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hydrogen and 1 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.0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oxygen form 2 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.0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wat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hydrogen and 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oxygen form 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wat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erms of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o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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oefficients tell us how many moles of each ki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1"/>
          <p:cNvSpPr/>
          <p:nvPr/>
        </p:nvSpPr>
        <p:spPr>
          <a:xfrm>
            <a:off x="5617800" y="5621400"/>
            <a:ext cx="296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04 g reacta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4952880" y="5486400"/>
            <a:ext cx="3886200" cy="914400"/>
          </a:xfrm>
          <a:custGeom>
            <a:avLst/>
            <a:gdLst>
              <a:gd name="textAreaLeft" fmla="*/ 887040 w 3886200"/>
              <a:gd name="textAreaRight" fmla="*/ 2999160 w 38862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5541120" y="5621400"/>
            <a:ext cx="31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36.04 g reacta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erms of m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law of conservation of mass appl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can check using mo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754200" y="3487680"/>
            <a:ext cx="200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2895480" y="3286080"/>
            <a:ext cx="2289240" cy="982440"/>
            <a:chOff x="2895480" y="3286080"/>
            <a:chExt cx="2289240" cy="982440"/>
          </a:xfrm>
        </p:grpSpPr>
        <p:grpSp>
          <p:nvGrpSpPr>
            <p:cNvPr id="192" name="Group 7"/>
            <p:cNvGrpSpPr/>
            <p:nvPr/>
          </p:nvGrpSpPr>
          <p:grpSpPr>
            <a:xfrm>
              <a:off x="4981680" y="3286080"/>
              <a:ext cx="203040" cy="982440"/>
              <a:chOff x="4981680" y="3286080"/>
              <a:chExt cx="203040" cy="982440"/>
            </a:xfrm>
          </p:grpSpPr>
          <p:sp>
            <p:nvSpPr>
              <p:cNvPr id="193" name="Arc 5"/>
              <p:cNvSpPr/>
              <p:nvPr/>
            </p:nvSpPr>
            <p:spPr>
              <a:xfrm rot="10800000">
                <a:off x="4983120" y="3744720"/>
                <a:ext cx="201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Arc 6"/>
              <p:cNvSpPr/>
              <p:nvPr/>
            </p:nvSpPr>
            <p:spPr>
              <a:xfrm>
                <a:off x="4981680" y="3286080"/>
                <a:ext cx="203040" cy="5256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10"/>
            <p:cNvGrpSpPr/>
            <p:nvPr/>
          </p:nvGrpSpPr>
          <p:grpSpPr>
            <a:xfrm>
              <a:off x="2895480" y="3287880"/>
              <a:ext cx="204840" cy="980640"/>
              <a:chOff x="2895480" y="3287880"/>
              <a:chExt cx="204840" cy="980640"/>
            </a:xfrm>
          </p:grpSpPr>
          <p:sp>
            <p:nvSpPr>
              <p:cNvPr id="196" name="Arc 8"/>
              <p:cNvSpPr/>
              <p:nvPr/>
            </p:nvSpPr>
            <p:spPr>
              <a:xfrm rot="10800000">
                <a:off x="2895480" y="3744720"/>
                <a:ext cx="201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" name="Arc 9"/>
              <p:cNvSpPr/>
              <p:nvPr/>
            </p:nvSpPr>
            <p:spPr>
              <a:xfrm>
                <a:off x="2897280" y="3287880"/>
                <a:ext cx="20304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11"/>
            <p:cNvSpPr/>
            <p:nvPr/>
          </p:nvSpPr>
          <p:spPr>
            <a:xfrm>
              <a:off x="3164040" y="3776760"/>
              <a:ext cx="17492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036600" y="3170160"/>
            <a:ext cx="1719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02 g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2963880" y="3780000"/>
            <a:ext cx="200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moles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5164560" y="348768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5703480" y="3487680"/>
            <a:ext cx="1719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.04 g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677880" y="4935600"/>
            <a:ext cx="200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moles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4" name="Group 25"/>
          <p:cNvGrpSpPr/>
          <p:nvPr/>
        </p:nvGrpSpPr>
        <p:grpSpPr>
          <a:xfrm>
            <a:off x="2819520" y="4734000"/>
            <a:ext cx="2288880" cy="982080"/>
            <a:chOff x="2819520" y="4734000"/>
            <a:chExt cx="2288880" cy="982080"/>
          </a:xfrm>
        </p:grpSpPr>
        <p:grpSp>
          <p:nvGrpSpPr>
            <p:cNvPr id="205" name="Group 20"/>
            <p:cNvGrpSpPr/>
            <p:nvPr/>
          </p:nvGrpSpPr>
          <p:grpSpPr>
            <a:xfrm>
              <a:off x="4905360" y="4734000"/>
              <a:ext cx="203040" cy="982080"/>
              <a:chOff x="4905360" y="4734000"/>
              <a:chExt cx="203040" cy="982080"/>
            </a:xfrm>
          </p:grpSpPr>
          <p:sp>
            <p:nvSpPr>
              <p:cNvPr id="206" name="Arc 18"/>
              <p:cNvSpPr/>
              <p:nvPr/>
            </p:nvSpPr>
            <p:spPr>
              <a:xfrm rot="10800000">
                <a:off x="4906800" y="5192280"/>
                <a:ext cx="201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7" name="Arc 19"/>
              <p:cNvSpPr/>
              <p:nvPr/>
            </p:nvSpPr>
            <p:spPr>
              <a:xfrm>
                <a:off x="4905360" y="4734000"/>
                <a:ext cx="203040" cy="52524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23"/>
            <p:cNvGrpSpPr/>
            <p:nvPr/>
          </p:nvGrpSpPr>
          <p:grpSpPr>
            <a:xfrm>
              <a:off x="2819520" y="4735440"/>
              <a:ext cx="204840" cy="980640"/>
              <a:chOff x="2819520" y="4735440"/>
              <a:chExt cx="204840" cy="980640"/>
            </a:xfrm>
          </p:grpSpPr>
          <p:sp>
            <p:nvSpPr>
              <p:cNvPr id="209" name="Arc 21"/>
              <p:cNvSpPr/>
              <p:nvPr/>
            </p:nvSpPr>
            <p:spPr>
              <a:xfrm rot="10800000">
                <a:off x="2819520" y="5192280"/>
                <a:ext cx="201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Arc 22"/>
              <p:cNvSpPr/>
              <p:nvPr/>
            </p:nvSpPr>
            <p:spPr>
              <a:xfrm>
                <a:off x="2820960" y="4735440"/>
                <a:ext cx="2034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Line 24"/>
            <p:cNvSpPr/>
            <p:nvPr/>
          </p:nvSpPr>
          <p:spPr>
            <a:xfrm>
              <a:off x="3087720" y="5224320"/>
              <a:ext cx="17492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12" name="Rectangle 26"/>
          <p:cNvSpPr/>
          <p:nvPr/>
        </p:nvSpPr>
        <p:spPr>
          <a:xfrm>
            <a:off x="2959920" y="4618080"/>
            <a:ext cx="192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2.00 g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2887560" y="5227560"/>
            <a:ext cx="200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moles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5088600" y="493560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5626800" y="4935600"/>
            <a:ext cx="192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2.00 g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Line 30"/>
          <p:cNvSpPr/>
          <p:nvPr/>
        </p:nvSpPr>
        <p:spPr>
          <a:xfrm>
            <a:off x="5486400" y="5529240"/>
            <a:ext cx="2017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erms of m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53840" y="2496960"/>
            <a:ext cx="2303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3200040" y="2295360"/>
            <a:ext cx="2594160" cy="982440"/>
            <a:chOff x="3200040" y="2295360"/>
            <a:chExt cx="2594160" cy="982440"/>
          </a:xfrm>
        </p:grpSpPr>
        <p:grpSp>
          <p:nvGrpSpPr>
            <p:cNvPr id="221" name="Group 7"/>
            <p:cNvGrpSpPr/>
            <p:nvPr/>
          </p:nvGrpSpPr>
          <p:grpSpPr>
            <a:xfrm>
              <a:off x="5564160" y="2295360"/>
              <a:ext cx="230040" cy="982440"/>
              <a:chOff x="5564160" y="2295360"/>
              <a:chExt cx="230040" cy="982440"/>
            </a:xfrm>
          </p:grpSpPr>
          <p:sp>
            <p:nvSpPr>
              <p:cNvPr id="222" name="Arc 5"/>
              <p:cNvSpPr/>
              <p:nvPr/>
            </p:nvSpPr>
            <p:spPr>
              <a:xfrm rot="10800000">
                <a:off x="5565240" y="2754000"/>
                <a:ext cx="228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3" name="Arc 6"/>
              <p:cNvSpPr/>
              <p:nvPr/>
            </p:nvSpPr>
            <p:spPr>
              <a:xfrm>
                <a:off x="5564160" y="2295360"/>
                <a:ext cx="230040" cy="5256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10"/>
            <p:cNvGrpSpPr/>
            <p:nvPr/>
          </p:nvGrpSpPr>
          <p:grpSpPr>
            <a:xfrm>
              <a:off x="3200040" y="2297160"/>
              <a:ext cx="232200" cy="980640"/>
              <a:chOff x="3200040" y="2297160"/>
              <a:chExt cx="232200" cy="980640"/>
            </a:xfrm>
          </p:grpSpPr>
          <p:sp>
            <p:nvSpPr>
              <p:cNvPr id="225" name="Arc 8"/>
              <p:cNvSpPr/>
              <p:nvPr/>
            </p:nvSpPr>
            <p:spPr>
              <a:xfrm rot="10800000">
                <a:off x="3200040" y="2754000"/>
                <a:ext cx="228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" name="Arc 9"/>
              <p:cNvSpPr/>
              <p:nvPr/>
            </p:nvSpPr>
            <p:spPr>
              <a:xfrm>
                <a:off x="3201840" y="2297160"/>
                <a:ext cx="2304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Line 11"/>
            <p:cNvSpPr/>
            <p:nvPr/>
          </p:nvSpPr>
          <p:spPr>
            <a:xfrm>
              <a:off x="3505320" y="2786040"/>
              <a:ext cx="1981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28" name="Rectangle 13"/>
          <p:cNvSpPr/>
          <p:nvPr/>
        </p:nvSpPr>
        <p:spPr>
          <a:xfrm>
            <a:off x="3344400" y="2179800"/>
            <a:ext cx="224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8.02 g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269520" y="2789280"/>
            <a:ext cx="2144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mole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5774400" y="249696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6163920" y="2421000"/>
            <a:ext cx="224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04 g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2761560" y="3668760"/>
            <a:ext cx="34394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161000" y="4572000"/>
            <a:ext cx="3135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04 g (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4250160" y="466884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5173200" y="4668840"/>
            <a:ext cx="224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04 g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Thomas V. Green Jr.</dc:creator>
  <dc:description/>
  <dc:language>en-US</dc:language>
  <cp:lastModifiedBy>jluckey</cp:lastModifiedBy>
  <cp:lastPrinted>1998-01-05T03:22:32Z</cp:lastPrinted>
  <dcterms:modified xsi:type="dcterms:W3CDTF">2011-04-17T11:46:26Z</dcterms:modified>
  <cp:revision>77</cp:revision>
  <dc:subject/>
  <dc:title>Chapter 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>http://mrgreen.tierranet.com</vt:lpwstr>
  </property>
  <property fmtid="{D5CDD505-2E9C-101B-9397-08002B2CF9AE}" pid="9" name="LinkColor">
    <vt:r8>16711782</vt:r8>
  </property>
  <property fmtid="{D5CDD505-2E9C-101B-9397-08002B2CF9AE}" pid="10" name="MailAddress">
    <vt:lpwstr>tvgreen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DATA\Web Pages\Tem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